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3D28-5D76-4008-A3FB-EAE720578B2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D74D-2186-4EEB-8006-67736A57C5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9302-6C33-4A1A-B5CA-133985F88B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C86-65B2-4740-99D5-1EB958EC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EBA-BEAE-4B7C-9832-00069E6A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FC3-1FB5-4C4A-A219-4B237E8F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6F1-DCB6-49ED-8BA1-3B590A27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795D-E116-4DC5-9598-F92A5DC5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34DE-8946-496E-B3BB-2B9B4474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8689-67CF-4DF3-93F7-2EFDDBCE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965C-1DFF-4EFD-B610-A8B9B203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AECD-862C-40F9-91EE-17742DA1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62485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78DC-8EE4-4F94-8D95-AF9CA4D6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7816-BFEC-4516-943E-C8EE5403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BAD-42DF-41C6-B9C6-24F2B565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86F6-03FF-42C4-870F-B73B7F3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436A-1CA3-46E4-AD87-EB6B3CD5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989E-9280-4892-8652-5BF08EBA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3F02-A70C-4C1D-852D-FEEAF3C6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3AAD-D5AB-4AAA-B4B9-E4BC1125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73D-7254-48F8-AE6C-CFB7DD87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62485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F7252-3B6F-4DE3-9F10-2712B5D386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E17A5-14C4-4BB7-BE1C-552BAB8248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390F4-2952-4E1C-93EF-D0A964832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385-7401-4AA0-9DC1-B63965C2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E0A690-681D-40A5-B804-4C081B8D52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0EBF41-8177-4A85-8F86-61B91488AC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62485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AF89F-90DE-4417-B39E-44699E966B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3EA07-9750-4B73-AEAA-E2683F7919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634FC4-6309-46AD-B490-69E7508C62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FE858-F469-4305-A4AB-E649E37661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71DEA-FAEA-49C1-821C-E9624392F4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CCC1D7-32D1-4203-A010-EA56FD1595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787977-1C2B-4ED2-806D-E8D89AD34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4A5-DCF1-43B8-8F88-5CCB0260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62485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31A-1A8D-4A32-A2E5-0298BAA1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DFF-C2D0-4779-ADA0-8BB2F539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C49-6317-43A3-A4A3-B4BD5078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105-118D-4FAD-A90D-21040C11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8F46-6C67-46EF-817E-24138FBBE1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solidFill>
            <a:srgbClr val="686b5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0DD4-835C-406B-AEE9-69CFFDE1A9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2colinform2"/>
          <p:cNvPicPr/>
          <p:nvPr/>
        </p:nvPicPr>
        <p:blipFill>
          <a:blip r:embed="rId2"/>
          <a:stretch/>
        </p:blipFill>
        <p:spPr>
          <a:xfrm>
            <a:off x="14400" y="6338880"/>
            <a:ext cx="495360" cy="50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6294600"/>
            <a:ext cx="528480" cy="563400"/>
          </a:xfrm>
          <a:prstGeom prst="rect">
            <a:avLst/>
          </a:pr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1311120"/>
            <a:ext cx="9144000" cy="10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195960"/>
            <a:ext cx="9144000" cy="10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logo-mttc grey"/>
          <p:cNvPicPr/>
          <p:nvPr/>
        </p:nvPicPr>
        <p:blipFill>
          <a:blip r:embed="rId3"/>
          <a:stretch/>
        </p:blipFill>
        <p:spPr>
          <a:xfrm>
            <a:off x="6794640" y="50760"/>
            <a:ext cx="228600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colinform2"/>
          <p:cNvPicPr/>
          <p:nvPr/>
        </p:nvPicPr>
        <p:blipFill>
          <a:blip r:embed="rId2"/>
          <a:stretch/>
        </p:blipFill>
        <p:spPr>
          <a:xfrm>
            <a:off x="14400" y="6338880"/>
            <a:ext cx="495360" cy="504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0" y="6294600"/>
            <a:ext cx="528480" cy="563400"/>
          </a:xfrm>
          <a:prstGeom prst="rect">
            <a:avLst/>
          </a:pr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logo-mttc grey"/>
          <p:cNvPicPr/>
          <p:nvPr/>
        </p:nvPicPr>
        <p:blipFill>
          <a:blip r:embed="rId3"/>
          <a:stretch/>
        </p:blipFill>
        <p:spPr>
          <a:xfrm>
            <a:off x="4241880" y="88920"/>
            <a:ext cx="4800600" cy="1378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0" y="1665360"/>
            <a:ext cx="9144000" cy="1681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 rot="16200000">
            <a:off x="-2813400" y="3339000"/>
            <a:ext cx="6870600" cy="1666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solidFill>
            <a:srgbClr val="686b5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9ea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Users\nick\Dropbox\Mobi Ticket\Branding\m\mticket_pink.png"/>
          <p:cNvPicPr/>
          <p:nvPr/>
        </p:nvPicPr>
        <p:blipFill>
          <a:blip r:embed="rId2"/>
          <a:stretch/>
        </p:blipFill>
        <p:spPr>
          <a:xfrm>
            <a:off x="177840" y="6066000"/>
            <a:ext cx="679320" cy="679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C:\Users\nick\Dropbox\Mobi Ticket\Branding\logos\green_pink.png"/>
          <p:cNvPicPr/>
          <p:nvPr/>
        </p:nvPicPr>
        <p:blipFill>
          <a:blip r:embed="rId3"/>
          <a:stretch/>
        </p:blipFill>
        <p:spPr>
          <a:xfrm>
            <a:off x="6578640" y="442800"/>
            <a:ext cx="2333520" cy="39852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13"/>
          <p:cNvSpPr/>
          <p:nvPr/>
        </p:nvSpPr>
        <p:spPr>
          <a:xfrm>
            <a:off x="-15840" y="1440000"/>
            <a:ext cx="9159840" cy="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4"/>
          <p:cNvSpPr/>
          <p:nvPr/>
        </p:nvSpPr>
        <p:spPr>
          <a:xfrm>
            <a:off x="-7920" y="5907240"/>
            <a:ext cx="915984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solidFill>
            <a:srgbClr val="686b5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0BB1-C758-4739-AA6C-51B37574937E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087640" y="2957040"/>
            <a:ext cx="85932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Nickson Nyakambi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Chief Executive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81" name="Picture 3" descr="C:\Users\nick\Dropbox\Mobi Ticket\Branding\m\mticket_pink.png"/>
          <p:cNvPicPr/>
          <p:nvPr/>
        </p:nvPicPr>
        <p:blipFill>
          <a:blip r:embed="rId1"/>
          <a:stretch/>
        </p:blipFill>
        <p:spPr>
          <a:xfrm>
            <a:off x="5553000" y="306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096720" y="2979720"/>
            <a:ext cx="52786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Nickson Nyakambi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hief Executive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nickson@mobiticket.co.ke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295" name="Picture 3" descr="C:\Users\nick\Dropbox\Mobi Ticket\Branding\m\mticket_pink.png"/>
          <p:cNvPicPr/>
          <p:nvPr/>
        </p:nvPicPr>
        <p:blipFill>
          <a:blip r:embed="rId1"/>
          <a:stretch/>
        </p:blipFill>
        <p:spPr>
          <a:xfrm>
            <a:off x="1576440" y="3078000"/>
            <a:ext cx="1298520" cy="1300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Background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9280" y="2209680"/>
            <a:ext cx="46069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GDP of USD67.5 billion (2015)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nnual growth of 5% promises to double the economy by 2030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Implications will be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rebuchet MS"/>
              </a:rPr>
              <a:t>Increased demand for private vehicle ownership</a:t>
            </a:r>
            <a:endParaRPr b="0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rebuchet MS"/>
              </a:rPr>
              <a:t>Increased value of time leading to trade off between price and time in the choice of mode</a:t>
            </a:r>
            <a:endParaRPr b="0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rebuchet MS"/>
              </a:rPr>
              <a:t>Increased ability to pay for transport</a:t>
            </a:r>
            <a:endParaRPr b="0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5284800" y="3282840"/>
            <a:ext cx="3852720" cy="259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Related image"/>
          <p:cNvPicPr/>
          <p:nvPr/>
        </p:nvPicPr>
        <p:blipFill>
          <a:blip r:embed="rId2"/>
          <a:stretch/>
        </p:blipFill>
        <p:spPr>
          <a:xfrm>
            <a:off x="5267160" y="1486080"/>
            <a:ext cx="3876840" cy="1827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"/>
          <p:cNvPicPr/>
          <p:nvPr/>
        </p:nvPicPr>
        <p:blipFill>
          <a:blip r:embed="rId3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Background cont…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280" y="2209680"/>
            <a:ext cx="46069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opulation expected to grow by at least 30% by 2030, 2050 etc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hanging population structure to 35/65 (2030) and 50/50 (2050) from the current 25/75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Nairobi’s population will be at least 10million people by 2030 contributing to the scale of transportation challeng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Users\NYAKAMBINICK\Dropbox\South Africa Visa 2018 November\download.jpg"/>
          <p:cNvPicPr/>
          <p:nvPr/>
        </p:nvPicPr>
        <p:blipFill>
          <a:blip r:embed="rId2"/>
          <a:stretch/>
        </p:blipFill>
        <p:spPr>
          <a:xfrm>
            <a:off x="5738760" y="2405160"/>
            <a:ext cx="284004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Solutions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9280" y="2209680"/>
            <a:ext cx="46069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Mass rapid transit/BRT/Ecomobility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-Payment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Data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Integrated ticketing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olitical will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Freeform 7"/>
          <p:cNvGrpSpPr/>
          <p:nvPr/>
        </p:nvGrpSpPr>
        <p:grpSpPr>
          <a:xfrm>
            <a:off x="5694480" y="1792440"/>
            <a:ext cx="919080" cy="907920"/>
            <a:chOff x="5694480" y="1792440"/>
            <a:chExt cx="919080" cy="907920"/>
          </a:xfrm>
        </p:grpSpPr>
        <p:pic>
          <p:nvPicPr>
            <p:cNvPr id="197" name="Freeform 7" descr=""/>
            <p:cNvPicPr/>
            <p:nvPr/>
          </p:nvPicPr>
          <p:blipFill>
            <a:blip r:embed="rId1"/>
            <a:stretch/>
          </p:blipFill>
          <p:spPr>
            <a:xfrm>
              <a:off x="5694480" y="1792440"/>
              <a:ext cx="9190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703840" y="1801800"/>
              <a:ext cx="90324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7"/>
          <p:cNvSpPr/>
          <p:nvPr/>
        </p:nvSpPr>
        <p:spPr>
          <a:xfrm>
            <a:off x="722160" y="2887560"/>
            <a:ext cx="90180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gradFill rotWithShape="0">
            <a:gsLst>
              <a:gs pos="0">
                <a:srgbClr val="9ba89e"/>
              </a:gs>
              <a:gs pos="100000">
                <a:srgbClr val="e2e5e3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2001960" y="181764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gradFill rotWithShape="0">
            <a:gsLst>
              <a:gs pos="0">
                <a:srgbClr val="9ba89e"/>
              </a:gs>
              <a:gs pos="100000">
                <a:srgbClr val="e2e5e3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941400" y="202248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gradFill rotWithShape="0">
            <a:gsLst>
              <a:gs pos="0">
                <a:srgbClr val="9ba89e"/>
              </a:gs>
              <a:gs pos="100000">
                <a:srgbClr val="e2e5e3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"/>
          <p:cNvSpPr/>
          <p:nvPr/>
        </p:nvSpPr>
        <p:spPr>
          <a:xfrm>
            <a:off x="1370160" y="2468520"/>
            <a:ext cx="1326960" cy="1254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9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"/>
          <p:cNvSpPr/>
          <p:nvPr/>
        </p:nvSpPr>
        <p:spPr>
          <a:xfrm>
            <a:off x="1424160" y="355428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fc42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"/>
          <p:cNvSpPr/>
          <p:nvPr/>
        </p:nvSpPr>
        <p:spPr>
          <a:xfrm>
            <a:off x="2479680" y="255600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fc42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2254320" y="338292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fc42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1370160" y="3828960"/>
            <a:ext cx="957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2009880" y="3670200"/>
            <a:ext cx="1395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2266920" y="2854440"/>
            <a:ext cx="1327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Rw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1509840" y="28512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686b5d"/>
                </a:solidFill>
                <a:latin typeface="Aller Light"/>
              </a:rPr>
              <a:t>3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686b5d"/>
                </a:solidFill>
                <a:latin typeface="Aller Light"/>
              </a:rPr>
              <a:t>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631800" y="1227240"/>
            <a:ext cx="77580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853920" y="2317680"/>
            <a:ext cx="9064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Tanz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1886040" y="2139840"/>
            <a:ext cx="11034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Ug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17400" y="1660680"/>
            <a:ext cx="3124440" cy="302724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633240" y="3181320"/>
            <a:ext cx="9064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Gh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1882800" y="4521240"/>
            <a:ext cx="12747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00441f"/>
                </a:solidFill>
                <a:latin typeface="Kontrapunkt Bob"/>
              </a:rPr>
              <a:t>Our  Pres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4913280" y="2887560"/>
            <a:ext cx="90180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6192720" y="181764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5132520" y="202248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5560920" y="2468520"/>
            <a:ext cx="1327320" cy="1254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686b5d"/>
          </a:solidFill>
          <a:ln w="12600">
            <a:solidFill>
              <a:srgbClr val="004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5614920" y="355428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6670800" y="255600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445080" y="3382920"/>
            <a:ext cx="90360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5605560" y="3828960"/>
            <a:ext cx="860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ontrapunkt Bob"/>
              </a:rPr>
              <a:t>Insur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6200640" y="3670200"/>
            <a:ext cx="13957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E-gov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6458040" y="2739960"/>
            <a:ext cx="1326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Analy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5057640" y="2200320"/>
            <a:ext cx="10828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ontrapunkt Bob"/>
              </a:rPr>
              <a:t>E-Ticke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6066000" y="2025720"/>
            <a:ext cx="11048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E-Pa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808520" y="1660680"/>
            <a:ext cx="3124080" cy="302724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4857840" y="3076560"/>
            <a:ext cx="906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E-Disb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5560920" y="4521240"/>
            <a:ext cx="20354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00441f"/>
                </a:solidFill>
                <a:latin typeface="Kontrapunkt Bob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539720" y="5568840"/>
            <a:ext cx="582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62123"/>
                </a:solidFill>
                <a:latin typeface="Kontrapunkt Bob Light"/>
              </a:rPr>
              <a:t>About Mobiticket/Jmabop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4" descr=""/>
          <p:cNvPicPr/>
          <p:nvPr/>
        </p:nvPicPr>
        <p:blipFill>
          <a:blip r:embed="rId2"/>
          <a:stretch/>
        </p:blipFill>
        <p:spPr>
          <a:xfrm>
            <a:off x="631800" y="4862520"/>
            <a:ext cx="1041480" cy="692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27160" y="5502240"/>
            <a:ext cx="18288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1d1cb"/>
                </a:solidFill>
                <a:latin typeface="Kontrapunkt Bob"/>
              </a:rPr>
              <a:t>A Kenyan 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C:\Users\NYAKAMBINICK\Dropbox\Mobi Ticket\Branding\logos\green_pink - Copy (2).png"/>
          <p:cNvPicPr/>
          <p:nvPr/>
        </p:nvPicPr>
        <p:blipFill>
          <a:blip r:embed="rId3"/>
          <a:stretch/>
        </p:blipFill>
        <p:spPr>
          <a:xfrm>
            <a:off x="5618160" y="3056040"/>
            <a:ext cx="1073160" cy="183960"/>
          </a:xfrm>
          <a:prstGeom prst="rect">
            <a:avLst/>
          </a:prstGeom>
          <a:ln w="0">
            <a:noFill/>
          </a:ln>
        </p:spPr>
      </p:pic>
      <p:sp>
        <p:nvSpPr>
          <p:cNvPr id="235" name="Title 1"/>
          <p:cNvSpPr/>
          <p:nvPr/>
        </p:nvSpPr>
        <p:spPr>
          <a:xfrm>
            <a:off x="152280" y="0"/>
            <a:ext cx="65390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Solutions cont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" descr=""/>
          <p:cNvPicPr/>
          <p:nvPr/>
        </p:nvPicPr>
        <p:blipFill>
          <a:blip r:embed="rId4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666120" cy="12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Solutions cont…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819000" y="1249200"/>
            <a:ext cx="77583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0" lang="en-GB" sz="1800" spc="-1" strike="noStrike">
                <a:solidFill>
                  <a:srgbClr val="762123"/>
                </a:solidFill>
                <a:latin typeface="Kontrapunkt Bob Light"/>
              </a:rPr>
              <a:t>Multi Channel electronic Ticketing &amp; Payment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"/>
          <p:cNvGrpSpPr/>
          <p:nvPr/>
        </p:nvGrpSpPr>
        <p:grpSpPr>
          <a:xfrm>
            <a:off x="3417840" y="2622600"/>
            <a:ext cx="2311560" cy="2309760"/>
            <a:chOff x="3417840" y="2622600"/>
            <a:chExt cx="2311560" cy="2309760"/>
          </a:xfrm>
        </p:grpSpPr>
        <p:sp>
          <p:nvSpPr>
            <p:cNvPr id="240" name="Freeform 3"/>
            <p:cNvSpPr/>
            <p:nvPr/>
          </p:nvSpPr>
          <p:spPr>
            <a:xfrm>
              <a:off x="3417840" y="2622600"/>
              <a:ext cx="2311560" cy="230976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240">
              <a:solidFill>
                <a:srgbClr val="f68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"/>
            <p:cNvSpPr/>
            <p:nvPr/>
          </p:nvSpPr>
          <p:spPr>
            <a:xfrm>
              <a:off x="3892680" y="3092400"/>
              <a:ext cx="1365120" cy="13654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a883"/>
                </a:gs>
                <a:gs pos="100000">
                  <a:srgbClr val="ffe4d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5"/>
          <p:cNvSpPr/>
          <p:nvPr/>
        </p:nvSpPr>
        <p:spPr>
          <a:xfrm>
            <a:off x="819000" y="2617920"/>
            <a:ext cx="2417760" cy="99540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819000" y="3943440"/>
            <a:ext cx="2417760" cy="99540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911920" y="2617920"/>
            <a:ext cx="2417760" cy="99540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5911920" y="3943440"/>
            <a:ext cx="2347920" cy="70488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0"/>
          <p:cNvSpPr/>
          <p:nvPr/>
        </p:nvSpPr>
        <p:spPr>
          <a:xfrm>
            <a:off x="2992320" y="3121200"/>
            <a:ext cx="498600" cy="498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3006720" y="3938760"/>
            <a:ext cx="498600" cy="498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"/>
          <p:cNvSpPr/>
          <p:nvPr/>
        </p:nvSpPr>
        <p:spPr>
          <a:xfrm>
            <a:off x="5591160" y="3908520"/>
            <a:ext cx="498600" cy="498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9"/>
          <p:cNvSpPr/>
          <p:nvPr/>
        </p:nvSpPr>
        <p:spPr>
          <a:xfrm>
            <a:off x="5656320" y="3114720"/>
            <a:ext cx="498240" cy="498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6192720" y="2774880"/>
            <a:ext cx="2067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22 Banks integrated as ag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Over Counter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Internet B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Mobile B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919080" y="2793960"/>
            <a:ext cx="2073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Andro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USS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Wind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1066680" y="2482920"/>
            <a:ext cx="7621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762123"/>
                </a:solidFill>
                <a:latin typeface="Kontrapunkt Bob"/>
              </a:rPr>
              <a:t>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6127920" y="3941640"/>
            <a:ext cx="21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Ag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Agents earn Com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965160" y="4068720"/>
            <a:ext cx="2073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Web based channel, MasterCard, M-PESA, VISA, Airtel Money, Other Deb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1192320" y="4805280"/>
            <a:ext cx="5601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762123"/>
                </a:solidFill>
                <a:latin typeface="Kontrapunkt Bob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6781680" y="2479680"/>
            <a:ext cx="6098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762123"/>
                </a:solidFill>
                <a:latin typeface="Kontrapunkt Bob"/>
              </a:rPr>
              <a:t>B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6593040" y="4473720"/>
            <a:ext cx="798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762123"/>
                </a:solidFill>
                <a:latin typeface="Kontrapunkt Bob"/>
              </a:rPr>
              <a:t>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5"/>
          <p:cNvSpPr/>
          <p:nvPr/>
        </p:nvSpPr>
        <p:spPr>
          <a:xfrm>
            <a:off x="5767560" y="3209760"/>
            <a:ext cx="284040" cy="255600"/>
          </a:xfrm>
          <a:custGeom>
            <a:avLst/>
            <a:gdLst/>
            <a:ahLst/>
            <a:rect l="l" t="t" r="r" b="b"/>
            <a:pathLst>
              <a:path w="21177" h="21458">
                <a:moveTo>
                  <a:pt x="20906" y="11130"/>
                </a:moveTo>
                <a:lnTo>
                  <a:pt x="11466" y="425"/>
                </a:lnTo>
                <a:cubicBezTo>
                  <a:pt x="10983" y="-142"/>
                  <a:pt x="10193" y="-142"/>
                  <a:pt x="9710" y="425"/>
                </a:cubicBezTo>
                <a:lnTo>
                  <a:pt x="271" y="11130"/>
                </a:lnTo>
                <a:cubicBezTo>
                  <a:pt x="-212" y="11696"/>
                  <a:pt x="-32" y="12160"/>
                  <a:pt x="671" y="12160"/>
                </a:cubicBezTo>
                <a:lnTo>
                  <a:pt x="2638" y="12160"/>
                </a:lnTo>
                <a:lnTo>
                  <a:pt x="2638" y="20381"/>
                </a:lnTo>
                <a:cubicBezTo>
                  <a:pt x="2638" y="20976"/>
                  <a:pt x="2661" y="21458"/>
                  <a:pt x="3609" y="21458"/>
                </a:cubicBezTo>
                <a:lnTo>
                  <a:pt x="8190" y="21458"/>
                </a:lnTo>
                <a:lnTo>
                  <a:pt x="8190" y="13214"/>
                </a:lnTo>
                <a:lnTo>
                  <a:pt x="12986" y="13214"/>
                </a:lnTo>
                <a:lnTo>
                  <a:pt x="12986" y="21458"/>
                </a:lnTo>
                <a:lnTo>
                  <a:pt x="17795" y="21458"/>
                </a:lnTo>
                <a:cubicBezTo>
                  <a:pt x="18518" y="21458"/>
                  <a:pt x="18538" y="20976"/>
                  <a:pt x="18538" y="20381"/>
                </a:cubicBezTo>
                <a:lnTo>
                  <a:pt x="18538" y="12160"/>
                </a:lnTo>
                <a:lnTo>
                  <a:pt x="20505" y="12160"/>
                </a:lnTo>
                <a:cubicBezTo>
                  <a:pt x="21208" y="12160"/>
                  <a:pt x="21388" y="11696"/>
                  <a:pt x="20906" y="111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7"/>
          <p:cNvSpPr/>
          <p:nvPr/>
        </p:nvSpPr>
        <p:spPr>
          <a:xfrm rot="1500000">
            <a:off x="3158640" y="3184560"/>
            <a:ext cx="147600" cy="30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95" y="1605"/>
                </a:moveTo>
                <a:lnTo>
                  <a:pt x="20607" y="1605"/>
                </a:lnTo>
                <a:lnTo>
                  <a:pt x="20607" y="18577"/>
                </a:lnTo>
                <a:lnTo>
                  <a:pt x="995" y="18577"/>
                </a:lnTo>
                <a:cubicBezTo>
                  <a:pt x="995" y="18577"/>
                  <a:pt x="995" y="1605"/>
                  <a:pt x="995" y="1605"/>
                </a:cubicBezTo>
                <a:close/>
                <a:moveTo>
                  <a:pt x="8887" y="19956"/>
                </a:moveTo>
                <a:cubicBezTo>
                  <a:pt x="8887" y="19388"/>
                  <a:pt x="9744" y="18926"/>
                  <a:pt x="10800" y="18926"/>
                </a:cubicBezTo>
                <a:cubicBezTo>
                  <a:pt x="11857" y="18926"/>
                  <a:pt x="12711" y="19388"/>
                  <a:pt x="12711" y="19956"/>
                </a:cubicBezTo>
                <a:cubicBezTo>
                  <a:pt x="12711" y="20523"/>
                  <a:pt x="11857" y="20985"/>
                  <a:pt x="10800" y="20985"/>
                </a:cubicBezTo>
                <a:cubicBezTo>
                  <a:pt x="9744" y="20985"/>
                  <a:pt x="8887" y="20523"/>
                  <a:pt x="8887" y="19956"/>
                </a:cubicBezTo>
                <a:close/>
                <a:moveTo>
                  <a:pt x="7563" y="895"/>
                </a:moveTo>
                <a:cubicBezTo>
                  <a:pt x="7563" y="948"/>
                  <a:pt x="7485" y="991"/>
                  <a:pt x="7385" y="991"/>
                </a:cubicBezTo>
                <a:lnTo>
                  <a:pt x="4303" y="991"/>
                </a:lnTo>
                <a:cubicBezTo>
                  <a:pt x="4206" y="991"/>
                  <a:pt x="4127" y="948"/>
                  <a:pt x="4127" y="895"/>
                </a:cubicBezTo>
                <a:cubicBezTo>
                  <a:pt x="4127" y="842"/>
                  <a:pt x="4206" y="800"/>
                  <a:pt x="4303" y="800"/>
                </a:cubicBezTo>
                <a:lnTo>
                  <a:pt x="7385" y="800"/>
                </a:lnTo>
                <a:cubicBezTo>
                  <a:pt x="7485" y="800"/>
                  <a:pt x="7563" y="842"/>
                  <a:pt x="7563" y="895"/>
                </a:cubicBezTo>
                <a:close/>
                <a:moveTo>
                  <a:pt x="3986" y="895"/>
                </a:moveTo>
                <a:cubicBezTo>
                  <a:pt x="3986" y="990"/>
                  <a:pt x="3843" y="1067"/>
                  <a:pt x="3667" y="1067"/>
                </a:cubicBezTo>
                <a:cubicBezTo>
                  <a:pt x="3492" y="1067"/>
                  <a:pt x="3349" y="990"/>
                  <a:pt x="3349" y="895"/>
                </a:cubicBezTo>
                <a:cubicBezTo>
                  <a:pt x="3349" y="802"/>
                  <a:pt x="3492" y="724"/>
                  <a:pt x="3667" y="724"/>
                </a:cubicBezTo>
                <a:cubicBezTo>
                  <a:pt x="3843" y="724"/>
                  <a:pt x="3986" y="802"/>
                  <a:pt x="3986" y="895"/>
                </a:cubicBezTo>
                <a:close/>
                <a:moveTo>
                  <a:pt x="0" y="924"/>
                </a:moveTo>
                <a:lnTo>
                  <a:pt x="0" y="20677"/>
                </a:lnTo>
                <a:cubicBezTo>
                  <a:pt x="0" y="21187"/>
                  <a:pt x="647" y="21600"/>
                  <a:pt x="1441" y="21600"/>
                </a:cubicBezTo>
                <a:lnTo>
                  <a:pt x="20162" y="21600"/>
                </a:lnTo>
                <a:cubicBezTo>
                  <a:pt x="20955" y="21600"/>
                  <a:pt x="21600" y="21187"/>
                  <a:pt x="21600" y="20677"/>
                </a:cubicBezTo>
                <a:lnTo>
                  <a:pt x="21600" y="924"/>
                </a:lnTo>
                <a:cubicBezTo>
                  <a:pt x="21600" y="414"/>
                  <a:pt x="20955" y="0"/>
                  <a:pt x="20162" y="0"/>
                </a:cubicBezTo>
                <a:lnTo>
                  <a:pt x="1441" y="0"/>
                </a:lnTo>
                <a:cubicBezTo>
                  <a:pt x="647" y="0"/>
                  <a:pt x="0" y="414"/>
                  <a:pt x="0" y="924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3930480" y="3811680"/>
            <a:ext cx="1251000" cy="345960"/>
          </a:xfrm>
          <a:prstGeom prst="rect">
            <a:avLst/>
          </a:prstGeom>
          <a:ln w="0">
            <a:noFill/>
          </a:ln>
        </p:spPr>
      </p:pic>
      <p:sp>
        <p:nvSpPr>
          <p:cNvPr id="261" name="Freeform 23"/>
          <p:cNvSpPr/>
          <p:nvPr/>
        </p:nvSpPr>
        <p:spPr>
          <a:xfrm>
            <a:off x="5715000" y="4030560"/>
            <a:ext cx="230040" cy="255600"/>
          </a:xfrm>
          <a:custGeom>
            <a:avLst/>
            <a:gdLst/>
            <a:ahLst/>
            <a:rect l="l" t="t" r="r" b="b"/>
            <a:pathLst>
              <a:path w="21439" h="21600">
                <a:moveTo>
                  <a:pt x="1949" y="4372"/>
                </a:moveTo>
                <a:lnTo>
                  <a:pt x="4697" y="1415"/>
                </a:lnTo>
                <a:lnTo>
                  <a:pt x="16741" y="1415"/>
                </a:lnTo>
                <a:lnTo>
                  <a:pt x="19491" y="4372"/>
                </a:lnTo>
                <a:cubicBezTo>
                  <a:pt x="19491" y="4372"/>
                  <a:pt x="1949" y="4372"/>
                  <a:pt x="1949" y="4372"/>
                </a:cubicBezTo>
                <a:close/>
                <a:moveTo>
                  <a:pt x="10719" y="13845"/>
                </a:moveTo>
                <a:cubicBezTo>
                  <a:pt x="6671" y="13845"/>
                  <a:pt x="5805" y="7934"/>
                  <a:pt x="5625" y="6717"/>
                </a:cubicBezTo>
                <a:lnTo>
                  <a:pt x="7914" y="6717"/>
                </a:lnTo>
                <a:cubicBezTo>
                  <a:pt x="8259" y="8493"/>
                  <a:pt x="9043" y="11531"/>
                  <a:pt x="10719" y="11531"/>
                </a:cubicBezTo>
                <a:cubicBezTo>
                  <a:pt x="12396" y="11531"/>
                  <a:pt x="13179" y="8493"/>
                  <a:pt x="13526" y="6717"/>
                </a:cubicBezTo>
                <a:lnTo>
                  <a:pt x="15815" y="6717"/>
                </a:lnTo>
                <a:cubicBezTo>
                  <a:pt x="15635" y="7934"/>
                  <a:pt x="14767" y="13845"/>
                  <a:pt x="10719" y="13845"/>
                </a:cubicBezTo>
                <a:close/>
                <a:moveTo>
                  <a:pt x="20843" y="2658"/>
                </a:moveTo>
                <a:cubicBezTo>
                  <a:pt x="20474" y="2330"/>
                  <a:pt x="18467" y="762"/>
                  <a:pt x="18092" y="429"/>
                </a:cubicBezTo>
                <a:cubicBezTo>
                  <a:pt x="17718" y="94"/>
                  <a:pt x="17131" y="0"/>
                  <a:pt x="16718" y="0"/>
                </a:cubicBezTo>
                <a:lnTo>
                  <a:pt x="4722" y="0"/>
                </a:lnTo>
                <a:cubicBezTo>
                  <a:pt x="4309" y="0"/>
                  <a:pt x="3722" y="94"/>
                  <a:pt x="3347" y="429"/>
                </a:cubicBezTo>
                <a:cubicBezTo>
                  <a:pt x="2973" y="762"/>
                  <a:pt x="965" y="2330"/>
                  <a:pt x="597" y="2658"/>
                </a:cubicBezTo>
                <a:cubicBezTo>
                  <a:pt x="228" y="2986"/>
                  <a:pt x="-80" y="3482"/>
                  <a:pt x="19" y="4189"/>
                </a:cubicBezTo>
                <a:cubicBezTo>
                  <a:pt x="118" y="4897"/>
                  <a:pt x="2433" y="20868"/>
                  <a:pt x="2433" y="20868"/>
                </a:cubicBezTo>
                <a:cubicBezTo>
                  <a:pt x="2563" y="21270"/>
                  <a:pt x="3007" y="21600"/>
                  <a:pt x="3420" y="21600"/>
                </a:cubicBezTo>
                <a:lnTo>
                  <a:pt x="18020" y="21600"/>
                </a:lnTo>
                <a:cubicBezTo>
                  <a:pt x="18433" y="21600"/>
                  <a:pt x="18877" y="21270"/>
                  <a:pt x="19007" y="20868"/>
                </a:cubicBezTo>
                <a:cubicBezTo>
                  <a:pt x="19007" y="20868"/>
                  <a:pt x="21322" y="4897"/>
                  <a:pt x="21421" y="4189"/>
                </a:cubicBezTo>
                <a:cubicBezTo>
                  <a:pt x="21520" y="3482"/>
                  <a:pt x="21212" y="2986"/>
                  <a:pt x="20843" y="26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3019320" y="4027320"/>
            <a:ext cx="417600" cy="271800"/>
            <a:chOff x="3019320" y="4027320"/>
            <a:chExt cx="417600" cy="271800"/>
          </a:xfrm>
        </p:grpSpPr>
        <p:grpSp>
          <p:nvGrpSpPr>
            <p:cNvPr id="263" name="Group 2"/>
            <p:cNvGrpSpPr/>
            <p:nvPr/>
          </p:nvGrpSpPr>
          <p:grpSpPr>
            <a:xfrm>
              <a:off x="3019320" y="4038120"/>
              <a:ext cx="224640" cy="261000"/>
              <a:chOff x="3019320" y="4038120"/>
              <a:chExt cx="224640" cy="261000"/>
            </a:xfrm>
          </p:grpSpPr>
          <p:sp>
            <p:nvSpPr>
              <p:cNvPr id="264" name="Freeform 12"/>
              <p:cNvSpPr/>
              <p:nvPr/>
            </p:nvSpPr>
            <p:spPr>
              <a:xfrm flipV="1">
                <a:off x="3093840" y="4037760"/>
                <a:ext cx="72000" cy="4140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3"/>
              <p:cNvSpPr/>
              <p:nvPr/>
            </p:nvSpPr>
            <p:spPr>
              <a:xfrm>
                <a:off x="3019320" y="4089960"/>
                <a:ext cx="224640" cy="209160"/>
              </a:xfrm>
              <a:custGeom>
                <a:avLst/>
                <a:gdLst/>
                <a:ahLst/>
                <a:rect l="l" t="t" r="r" b="b"/>
                <a:pathLst>
                  <a:path w="21276" h="21600">
                    <a:moveTo>
                      <a:pt x="21191" y="8000"/>
                    </a:moveTo>
                    <a:cubicBezTo>
                      <a:pt x="17435" y="1333"/>
                      <a:pt x="17435" y="1333"/>
                      <a:pt x="17435" y="1333"/>
                    </a:cubicBezTo>
                    <a:cubicBezTo>
                      <a:pt x="17200" y="533"/>
                      <a:pt x="16261" y="0"/>
                      <a:pt x="14852" y="0"/>
                    </a:cubicBezTo>
                    <a:cubicBezTo>
                      <a:pt x="6400" y="0"/>
                      <a:pt x="6400" y="0"/>
                      <a:pt x="6400" y="0"/>
                    </a:cubicBezTo>
                    <a:cubicBezTo>
                      <a:pt x="5461" y="0"/>
                      <a:pt x="4756" y="267"/>
                      <a:pt x="4287" y="667"/>
                    </a:cubicBezTo>
                    <a:cubicBezTo>
                      <a:pt x="4052" y="800"/>
                      <a:pt x="4052" y="800"/>
                      <a:pt x="4052" y="933"/>
                    </a:cubicBezTo>
                    <a:lnTo>
                      <a:pt x="3817" y="1067"/>
                    </a:lnTo>
                    <a:cubicBezTo>
                      <a:pt x="61" y="8000"/>
                      <a:pt x="61" y="8000"/>
                      <a:pt x="61" y="8000"/>
                    </a:cubicBezTo>
                    <a:cubicBezTo>
                      <a:pt x="-174" y="8400"/>
                      <a:pt x="296" y="8933"/>
                      <a:pt x="1000" y="9067"/>
                    </a:cubicBezTo>
                    <a:cubicBezTo>
                      <a:pt x="1939" y="9200"/>
                      <a:pt x="2878" y="8933"/>
                      <a:pt x="3113" y="8533"/>
                    </a:cubicBezTo>
                    <a:cubicBezTo>
                      <a:pt x="5930" y="3067"/>
                      <a:pt x="5930" y="3067"/>
                      <a:pt x="5930" y="3067"/>
                    </a:cubicBezTo>
                    <a:cubicBezTo>
                      <a:pt x="6165" y="3067"/>
                      <a:pt x="6165" y="3067"/>
                      <a:pt x="6400" y="3067"/>
                    </a:cubicBezTo>
                    <a:cubicBezTo>
                      <a:pt x="6635" y="3067"/>
                      <a:pt x="6635" y="3067"/>
                      <a:pt x="6635" y="3067"/>
                    </a:cubicBezTo>
                    <a:cubicBezTo>
                      <a:pt x="1939" y="12800"/>
                      <a:pt x="1939" y="12800"/>
                      <a:pt x="1939" y="12800"/>
                    </a:cubicBezTo>
                    <a:cubicBezTo>
                      <a:pt x="6635" y="12800"/>
                      <a:pt x="6635" y="12800"/>
                      <a:pt x="6635" y="12800"/>
                    </a:cubicBezTo>
                    <a:cubicBezTo>
                      <a:pt x="6635" y="20667"/>
                      <a:pt x="6635" y="20667"/>
                      <a:pt x="6635" y="20667"/>
                    </a:cubicBezTo>
                    <a:cubicBezTo>
                      <a:pt x="6635" y="21200"/>
                      <a:pt x="7574" y="21600"/>
                      <a:pt x="8513" y="21600"/>
                    </a:cubicBezTo>
                    <a:cubicBezTo>
                      <a:pt x="9452" y="21600"/>
                      <a:pt x="10156" y="21200"/>
                      <a:pt x="10156" y="20667"/>
                    </a:cubicBezTo>
                    <a:cubicBezTo>
                      <a:pt x="10156" y="12800"/>
                      <a:pt x="10156" y="12800"/>
                      <a:pt x="10156" y="12800"/>
                    </a:cubicBezTo>
                    <a:cubicBezTo>
                      <a:pt x="11330" y="12800"/>
                      <a:pt x="11330" y="12800"/>
                      <a:pt x="11330" y="12800"/>
                    </a:cubicBezTo>
                    <a:cubicBezTo>
                      <a:pt x="11330" y="20667"/>
                      <a:pt x="11330" y="20667"/>
                      <a:pt x="11330" y="20667"/>
                    </a:cubicBezTo>
                    <a:cubicBezTo>
                      <a:pt x="11330" y="21200"/>
                      <a:pt x="12035" y="21600"/>
                      <a:pt x="12974" y="21600"/>
                    </a:cubicBezTo>
                    <a:cubicBezTo>
                      <a:pt x="13913" y="21600"/>
                      <a:pt x="14852" y="21200"/>
                      <a:pt x="14852" y="20667"/>
                    </a:cubicBezTo>
                    <a:cubicBezTo>
                      <a:pt x="14852" y="12800"/>
                      <a:pt x="14852" y="12800"/>
                      <a:pt x="14852" y="12800"/>
                    </a:cubicBezTo>
                    <a:cubicBezTo>
                      <a:pt x="19313" y="12800"/>
                      <a:pt x="19313" y="12800"/>
                      <a:pt x="19313" y="12800"/>
                    </a:cubicBezTo>
                    <a:cubicBezTo>
                      <a:pt x="14617" y="3067"/>
                      <a:pt x="14617" y="3067"/>
                      <a:pt x="14617" y="3067"/>
                    </a:cubicBezTo>
                    <a:cubicBezTo>
                      <a:pt x="14852" y="3067"/>
                      <a:pt x="14852" y="3067"/>
                      <a:pt x="14852" y="3067"/>
                    </a:cubicBezTo>
                    <a:cubicBezTo>
                      <a:pt x="15087" y="3067"/>
                      <a:pt x="15087" y="3067"/>
                      <a:pt x="15087" y="3067"/>
                    </a:cubicBezTo>
                    <a:cubicBezTo>
                      <a:pt x="18374" y="8533"/>
                      <a:pt x="18374" y="8533"/>
                      <a:pt x="18374" y="8533"/>
                    </a:cubicBezTo>
                    <a:cubicBezTo>
                      <a:pt x="18609" y="8933"/>
                      <a:pt x="19548" y="9200"/>
                      <a:pt x="20252" y="9067"/>
                    </a:cubicBezTo>
                    <a:cubicBezTo>
                      <a:pt x="21191" y="8933"/>
                      <a:pt x="21426" y="8400"/>
                      <a:pt x="21191" y="80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57"/>
            <p:cNvGrpSpPr/>
            <p:nvPr/>
          </p:nvGrpSpPr>
          <p:grpSpPr>
            <a:xfrm>
              <a:off x="3273120" y="4027320"/>
              <a:ext cx="163800" cy="271800"/>
              <a:chOff x="3273120" y="4027320"/>
              <a:chExt cx="163800" cy="271800"/>
            </a:xfrm>
          </p:grpSpPr>
          <p:sp>
            <p:nvSpPr>
              <p:cNvPr id="267" name="Freeform 12"/>
              <p:cNvSpPr/>
              <p:nvPr/>
            </p:nvSpPr>
            <p:spPr>
              <a:xfrm flipH="1" flipV="1">
                <a:off x="3322440" y="4027320"/>
                <a:ext cx="78120" cy="619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273120" y="4095000"/>
                <a:ext cx="163800" cy="204120"/>
              </a:xfrm>
              <a:custGeom>
                <a:avLst/>
                <a:gdLst/>
                <a:ahLst/>
                <a:rect l="l" t="t" r="r" b="b"/>
                <a:pathLst>
                  <a:path w="21276" h="21600">
                    <a:moveTo>
                      <a:pt x="21191" y="8000"/>
                    </a:moveTo>
                    <a:cubicBezTo>
                      <a:pt x="17435" y="1333"/>
                      <a:pt x="17435" y="1333"/>
                      <a:pt x="17435" y="1333"/>
                    </a:cubicBezTo>
                    <a:cubicBezTo>
                      <a:pt x="17200" y="533"/>
                      <a:pt x="16261" y="0"/>
                      <a:pt x="14852" y="0"/>
                    </a:cubicBezTo>
                    <a:cubicBezTo>
                      <a:pt x="6400" y="0"/>
                      <a:pt x="6400" y="0"/>
                      <a:pt x="6400" y="0"/>
                    </a:cubicBezTo>
                    <a:cubicBezTo>
                      <a:pt x="5461" y="0"/>
                      <a:pt x="4756" y="267"/>
                      <a:pt x="4287" y="667"/>
                    </a:cubicBezTo>
                    <a:cubicBezTo>
                      <a:pt x="4052" y="800"/>
                      <a:pt x="4052" y="800"/>
                      <a:pt x="4052" y="933"/>
                    </a:cubicBezTo>
                    <a:lnTo>
                      <a:pt x="3817" y="1067"/>
                    </a:lnTo>
                    <a:cubicBezTo>
                      <a:pt x="61" y="8000"/>
                      <a:pt x="61" y="8000"/>
                      <a:pt x="61" y="8000"/>
                    </a:cubicBezTo>
                    <a:cubicBezTo>
                      <a:pt x="-174" y="8400"/>
                      <a:pt x="296" y="8933"/>
                      <a:pt x="1000" y="9067"/>
                    </a:cubicBezTo>
                    <a:cubicBezTo>
                      <a:pt x="1939" y="9200"/>
                      <a:pt x="2878" y="8933"/>
                      <a:pt x="3113" y="8533"/>
                    </a:cubicBezTo>
                    <a:cubicBezTo>
                      <a:pt x="5930" y="3067"/>
                      <a:pt x="5930" y="3067"/>
                      <a:pt x="5930" y="3067"/>
                    </a:cubicBezTo>
                    <a:cubicBezTo>
                      <a:pt x="6165" y="3067"/>
                      <a:pt x="6165" y="3067"/>
                      <a:pt x="6400" y="3067"/>
                    </a:cubicBezTo>
                    <a:cubicBezTo>
                      <a:pt x="6635" y="3067"/>
                      <a:pt x="6635" y="3067"/>
                      <a:pt x="6635" y="3067"/>
                    </a:cubicBezTo>
                    <a:cubicBezTo>
                      <a:pt x="1939" y="12800"/>
                      <a:pt x="1939" y="12800"/>
                      <a:pt x="1939" y="12800"/>
                    </a:cubicBezTo>
                    <a:cubicBezTo>
                      <a:pt x="6635" y="12800"/>
                      <a:pt x="6635" y="12800"/>
                      <a:pt x="6635" y="12800"/>
                    </a:cubicBezTo>
                    <a:cubicBezTo>
                      <a:pt x="6635" y="20667"/>
                      <a:pt x="6635" y="20667"/>
                      <a:pt x="6635" y="20667"/>
                    </a:cubicBezTo>
                    <a:cubicBezTo>
                      <a:pt x="6635" y="21200"/>
                      <a:pt x="7574" y="21600"/>
                      <a:pt x="8513" y="21600"/>
                    </a:cubicBezTo>
                    <a:cubicBezTo>
                      <a:pt x="9452" y="21600"/>
                      <a:pt x="10156" y="21200"/>
                      <a:pt x="10156" y="20667"/>
                    </a:cubicBezTo>
                    <a:cubicBezTo>
                      <a:pt x="10156" y="12800"/>
                      <a:pt x="10156" y="12800"/>
                      <a:pt x="10156" y="12800"/>
                    </a:cubicBezTo>
                    <a:cubicBezTo>
                      <a:pt x="11330" y="12800"/>
                      <a:pt x="11330" y="12800"/>
                      <a:pt x="11330" y="12800"/>
                    </a:cubicBezTo>
                    <a:cubicBezTo>
                      <a:pt x="11330" y="20667"/>
                      <a:pt x="11330" y="20667"/>
                      <a:pt x="11330" y="20667"/>
                    </a:cubicBezTo>
                    <a:cubicBezTo>
                      <a:pt x="11330" y="21200"/>
                      <a:pt x="12035" y="21600"/>
                      <a:pt x="12974" y="21600"/>
                    </a:cubicBezTo>
                    <a:cubicBezTo>
                      <a:pt x="13913" y="21600"/>
                      <a:pt x="14852" y="21200"/>
                      <a:pt x="14852" y="20667"/>
                    </a:cubicBezTo>
                    <a:cubicBezTo>
                      <a:pt x="14852" y="12800"/>
                      <a:pt x="14852" y="12800"/>
                      <a:pt x="14852" y="12800"/>
                    </a:cubicBezTo>
                    <a:cubicBezTo>
                      <a:pt x="19313" y="12800"/>
                      <a:pt x="19313" y="12800"/>
                      <a:pt x="19313" y="12800"/>
                    </a:cubicBezTo>
                    <a:cubicBezTo>
                      <a:pt x="14617" y="3067"/>
                      <a:pt x="14617" y="3067"/>
                      <a:pt x="14617" y="3067"/>
                    </a:cubicBezTo>
                    <a:cubicBezTo>
                      <a:pt x="14852" y="3067"/>
                      <a:pt x="14852" y="3067"/>
                      <a:pt x="14852" y="3067"/>
                    </a:cubicBezTo>
                    <a:cubicBezTo>
                      <a:pt x="15087" y="3067"/>
                      <a:pt x="15087" y="3067"/>
                      <a:pt x="15087" y="3067"/>
                    </a:cubicBezTo>
                    <a:cubicBezTo>
                      <a:pt x="18374" y="8533"/>
                      <a:pt x="18374" y="8533"/>
                      <a:pt x="18374" y="8533"/>
                    </a:cubicBezTo>
                    <a:cubicBezTo>
                      <a:pt x="18609" y="8933"/>
                      <a:pt x="19548" y="9200"/>
                      <a:pt x="20252" y="9067"/>
                    </a:cubicBezTo>
                    <a:cubicBezTo>
                      <a:pt x="21191" y="8933"/>
                      <a:pt x="21426" y="8400"/>
                      <a:pt x="21191" y="80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3"/>
          <p:cNvGrpSpPr/>
          <p:nvPr/>
        </p:nvGrpSpPr>
        <p:grpSpPr>
          <a:xfrm>
            <a:off x="3322800" y="4799160"/>
            <a:ext cx="2641320" cy="1112760"/>
            <a:chOff x="3322800" y="4799160"/>
            <a:chExt cx="2641320" cy="1112760"/>
          </a:xfrm>
        </p:grpSpPr>
        <p:sp>
          <p:nvSpPr>
            <p:cNvPr id="270" name="Rectangle 6"/>
            <p:cNvSpPr/>
            <p:nvPr/>
          </p:nvSpPr>
          <p:spPr>
            <a:xfrm>
              <a:off x="3322800" y="5111280"/>
              <a:ext cx="2641320" cy="741240"/>
            </a:xfrm>
            <a:prstGeom prst="rect">
              <a:avLst/>
            </a:prstGeom>
            <a:noFill/>
            <a:ln cap="sq" w="3240">
              <a:solidFill>
                <a:srgbClr val="f68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5"/>
            <p:cNvSpPr/>
            <p:nvPr/>
          </p:nvSpPr>
          <p:spPr>
            <a:xfrm>
              <a:off x="3417840" y="5172120"/>
              <a:ext cx="2527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7f7f7f"/>
                  </a:solidFill>
                  <a:latin typeface="Aller Light"/>
                </a:rPr>
                <a:t>Open APIs for enterprise solutions providers and integ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3691080" y="5780160"/>
              <a:ext cx="1080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685800"/>
                  <a:tab algn="l" pos="1596960"/>
                  <a:tab algn="l" pos="2509920"/>
                  <a:tab algn="l" pos="3422520"/>
                  <a:tab algn="l" pos="4335480"/>
                  <a:tab algn="l" pos="5248440"/>
                  <a:tab algn="l" pos="6161040"/>
                  <a:tab algn="l" pos="7074000"/>
                  <a:tab algn="l" pos="7986600"/>
                  <a:tab algn="l" pos="8899560"/>
                  <a:tab algn="l" pos="9812160"/>
                  <a:tab algn="l" pos="10725120"/>
                </a:tabLst>
              </a:pPr>
              <a:r>
                <a:rPr b="1" lang="en-GB" sz="1200" spc="-1" strike="noStrike">
                  <a:solidFill>
                    <a:srgbClr val="762123"/>
                  </a:solidFill>
                  <a:latin typeface="Kontrapunkt Bob"/>
                </a:rPr>
                <a:t>Open AP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"/>
            <p:cNvGrpSpPr/>
            <p:nvPr/>
          </p:nvGrpSpPr>
          <p:grpSpPr>
            <a:xfrm>
              <a:off x="4349880" y="4799160"/>
              <a:ext cx="422280" cy="419760"/>
              <a:chOff x="4349880" y="4799160"/>
              <a:chExt cx="422280" cy="419760"/>
            </a:xfrm>
          </p:grpSpPr>
          <p:sp>
            <p:nvSpPr>
              <p:cNvPr id="274" name="Freeform 13"/>
              <p:cNvSpPr/>
              <p:nvPr/>
            </p:nvSpPr>
            <p:spPr>
              <a:xfrm>
                <a:off x="4349880" y="4799160"/>
                <a:ext cx="422280" cy="41976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</a:path>
                </a:pathLst>
              </a:custGeom>
              <a:solidFill>
                <a:srgbClr val="f15d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"/>
              <p:cNvSpPr/>
              <p:nvPr/>
            </p:nvSpPr>
            <p:spPr>
              <a:xfrm>
                <a:off x="4382280" y="4862160"/>
                <a:ext cx="346320" cy="283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8143" y="10800"/>
                    </a:moveTo>
                    <a:cubicBezTo>
                      <a:pt x="17065" y="10800"/>
                      <a:pt x="16800" y="11898"/>
                      <a:pt x="16709" y="12419"/>
                    </a:cubicBezTo>
                    <a:cubicBezTo>
                      <a:pt x="16115" y="15817"/>
                      <a:pt x="13696" y="18359"/>
                      <a:pt x="10800" y="18359"/>
                    </a:cubicBezTo>
                    <a:cubicBezTo>
                      <a:pt x="9130" y="18359"/>
                      <a:pt x="7618" y="17514"/>
                      <a:pt x="6524" y="16146"/>
                    </a:cubicBezTo>
                    <a:cubicBezTo>
                      <a:pt x="6018" y="15513"/>
                      <a:pt x="5198" y="15513"/>
                      <a:pt x="4691" y="16146"/>
                    </a:cubicBezTo>
                    <a:cubicBezTo>
                      <a:pt x="4185" y="16779"/>
                      <a:pt x="4185" y="17804"/>
                      <a:pt x="4691" y="18437"/>
                    </a:cubicBezTo>
                    <a:cubicBezTo>
                      <a:pt x="6255" y="20391"/>
                      <a:pt x="8415" y="21600"/>
                      <a:pt x="10800" y="21600"/>
                    </a:cubicBezTo>
                    <a:cubicBezTo>
                      <a:pt x="14669" y="21600"/>
                      <a:pt x="17943" y="18421"/>
                      <a:pt x="19043" y="14039"/>
                    </a:cubicBezTo>
                    <a:lnTo>
                      <a:pt x="21600" y="14039"/>
                    </a:lnTo>
                    <a:lnTo>
                      <a:pt x="21600" y="10800"/>
                    </a:lnTo>
                    <a:cubicBezTo>
                      <a:pt x="21600" y="10800"/>
                      <a:pt x="18143" y="10800"/>
                      <a:pt x="18143" y="10800"/>
                    </a:cubicBezTo>
                    <a:close/>
                    <a:moveTo>
                      <a:pt x="4891" y="9180"/>
                    </a:moveTo>
                    <a:cubicBezTo>
                      <a:pt x="5484" y="5783"/>
                      <a:pt x="7904" y="3240"/>
                      <a:pt x="10800" y="3240"/>
                    </a:cubicBezTo>
                    <a:cubicBezTo>
                      <a:pt x="12470" y="3240"/>
                      <a:pt x="13982" y="4086"/>
                      <a:pt x="15076" y="5454"/>
                    </a:cubicBezTo>
                    <a:cubicBezTo>
                      <a:pt x="15582" y="6086"/>
                      <a:pt x="16404" y="6086"/>
                      <a:pt x="16909" y="5454"/>
                    </a:cubicBezTo>
                    <a:cubicBezTo>
                      <a:pt x="17415" y="4821"/>
                      <a:pt x="17415" y="3796"/>
                      <a:pt x="16909" y="3163"/>
                    </a:cubicBezTo>
                    <a:cubicBezTo>
                      <a:pt x="15346" y="1209"/>
                      <a:pt x="13186" y="0"/>
                      <a:pt x="10800" y="0"/>
                    </a:cubicBezTo>
                    <a:cubicBezTo>
                      <a:pt x="6931" y="0"/>
                      <a:pt x="3658" y="3178"/>
                      <a:pt x="2557" y="7560"/>
                    </a:cubicBezTo>
                    <a:lnTo>
                      <a:pt x="0" y="7560"/>
                    </a:lnTo>
                    <a:lnTo>
                      <a:pt x="0" y="10800"/>
                    </a:lnTo>
                    <a:lnTo>
                      <a:pt x="3457" y="10800"/>
                    </a:lnTo>
                    <a:cubicBezTo>
                      <a:pt x="4535" y="10800"/>
                      <a:pt x="4800" y="9702"/>
                      <a:pt x="4891" y="9180"/>
                    </a:cubicBezTo>
                    <a:close/>
                    <a:moveTo>
                      <a:pt x="7343" y="10800"/>
                    </a:moveTo>
                    <a:cubicBezTo>
                      <a:pt x="7343" y="13185"/>
                      <a:pt x="8891" y="15120"/>
                      <a:pt x="10800" y="15120"/>
                    </a:cubicBezTo>
                    <a:cubicBezTo>
                      <a:pt x="12709" y="15120"/>
                      <a:pt x="14255" y="13185"/>
                      <a:pt x="14255" y="10800"/>
                    </a:cubicBezTo>
                    <a:cubicBezTo>
                      <a:pt x="14255" y="8415"/>
                      <a:pt x="12709" y="6480"/>
                      <a:pt x="10800" y="6480"/>
                    </a:cubicBezTo>
                    <a:cubicBezTo>
                      <a:pt x="8891" y="6480"/>
                      <a:pt x="7343" y="8415"/>
                      <a:pt x="7343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6" name="Picture 11" descr="C:\Users\NYAKAMBINICK\Dropbox\Mobi Ticket\Branding\logos\green_pink - Copy (2).png"/>
          <p:cNvPicPr/>
          <p:nvPr/>
        </p:nvPicPr>
        <p:blipFill>
          <a:blip r:embed="rId2"/>
          <a:stretch/>
        </p:blipFill>
        <p:spPr>
          <a:xfrm>
            <a:off x="3854520" y="3465360"/>
            <a:ext cx="1495440" cy="2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" descr=""/>
          <p:cNvPicPr/>
          <p:nvPr/>
        </p:nvPicPr>
        <p:blipFill>
          <a:blip r:embed="rId3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BRT in Nairobi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9280" y="2209680"/>
            <a:ext cx="46069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Government changing focus on public transport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Greater Nairobi has poor transport services, congestion, high rates of traffic accidents and greatly increasing pollution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ommuter rail very ineffective due to lack of comfort, limited coverage, no intermodal integration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fDB financed MRTS study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5284800" y="3282840"/>
            <a:ext cx="3852720" cy="259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Related image"/>
          <p:cNvPicPr/>
          <p:nvPr/>
        </p:nvPicPr>
        <p:blipFill>
          <a:blip r:embed="rId2"/>
          <a:stretch/>
        </p:blipFill>
        <p:spPr>
          <a:xfrm>
            <a:off x="5267160" y="1486080"/>
            <a:ext cx="3876840" cy="1827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"/>
          <p:cNvPicPr/>
          <p:nvPr/>
        </p:nvPicPr>
        <p:blipFill>
          <a:blip r:embed="rId3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BRT in Nairobi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60280" y="2409840"/>
            <a:ext cx="4025880" cy="2782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3"/>
          <a:stretch/>
        </p:blipFill>
        <p:spPr>
          <a:xfrm>
            <a:off x="4349880" y="2409840"/>
            <a:ext cx="4556160" cy="2782800"/>
          </a:xfrm>
          <a:prstGeom prst="rect">
            <a:avLst/>
          </a:prstGeom>
          <a:ln w="0">
            <a:noFill/>
          </a:ln>
        </p:spPr>
      </p:pic>
      <p:sp>
        <p:nvSpPr>
          <p:cNvPr id="287" name="Title 1"/>
          <p:cNvSpPr/>
          <p:nvPr/>
        </p:nvSpPr>
        <p:spPr>
          <a:xfrm>
            <a:off x="390600" y="1955880"/>
            <a:ext cx="2162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MRT Corri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tle 1"/>
          <p:cNvSpPr/>
          <p:nvPr/>
        </p:nvSpPr>
        <p:spPr>
          <a:xfrm>
            <a:off x="4349880" y="1955880"/>
            <a:ext cx="216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BRT Corri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Moving Ahead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9280" y="2209680"/>
            <a:ext cx="46069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Work together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Beyond BRT – higher capacity than BRT, Eco mobility alternative transport?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frican technological advantage should be explored to secure systems integrations – integrated ticketing and unified payment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Provide integrated ticketing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Ubiquitous channels for payments and ticketing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Intermodal transfer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34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1"/>
          <a:stretch/>
        </p:blipFill>
        <p:spPr>
          <a:xfrm>
            <a:off x="5284800" y="3282840"/>
            <a:ext cx="3852720" cy="2592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Related image"/>
          <p:cNvPicPr/>
          <p:nvPr/>
        </p:nvPicPr>
        <p:blipFill>
          <a:blip r:embed="rId2"/>
          <a:stretch/>
        </p:blipFill>
        <p:spPr>
          <a:xfrm>
            <a:off x="5267160" y="1486080"/>
            <a:ext cx="3876840" cy="1827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" descr=""/>
          <p:cNvPicPr/>
          <p:nvPr/>
        </p:nvPicPr>
        <p:blipFill>
          <a:blip r:embed="rId3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22:19:32Z</dcterms:created>
  <dc:creator>NICK</dc:creator>
  <dc:description/>
  <dc:language>en-US</dc:language>
  <cp:lastModifiedBy>NYAKAMBINICK</cp:lastModifiedBy>
  <cp:lastPrinted>2014-01-13T19:09:03Z</cp:lastPrinted>
  <dcterms:modified xsi:type="dcterms:W3CDTF">2018-11-27T08:53:31Z</dcterms:modified>
  <cp:revision>175</cp:revision>
  <dc:subject/>
  <dc:title>Slide 1</dc:title>
</cp:coreProperties>
</file>