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8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rebuchet MS"/>
              </a:rPr>
              <a:t>Click to move the slide</a:t>
            </a: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9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10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D1D4-C593-41E5-8B8A-D1C555CEC58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1554-2998-481A-8483-E51753BE612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4242-CE8B-4F31-9FBB-CA3DF69B0D8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5343-7F55-47E8-8ACE-7ED4EAFCE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822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9360"/>
            <a:ext cx="822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DAE2-5E89-4A12-8D51-FC4113B1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1100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93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93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B58B-0AB6-4AA5-92B3-174F9F1CB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1100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1100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936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936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936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FA70-6502-4333-A548-5832A6939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95D8-9001-4CB1-AD08-D58D1E9F2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11000"/>
            <a:ext cx="822960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EF7F0-663D-4E47-9E3D-EE0FC7B4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82296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73AA-BD3A-4CF7-BF2E-D6696689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1100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D94C-E2E3-4B1D-BE9B-5DD262AD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2AD9E-6681-4947-A09B-200FE603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-360"/>
            <a:ext cx="624852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6871B-E704-4E7F-AC6E-E20C4B1A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1100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93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0D84-CA39-4DD1-B86F-339DA459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11000"/>
            <a:ext cx="822960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D8A0-0CE6-4F3E-B626-681FC396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1100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93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B6D6-CAF0-4510-AA8C-BB200450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1100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9360"/>
            <a:ext cx="822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7CEA-2E96-46B0-BE2B-383D5FD9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822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9360"/>
            <a:ext cx="822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8FB0A-4128-4070-AAA5-63BAA3CC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1100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93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93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F106-E08E-4EFE-9579-3A28A3365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1100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1100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936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936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936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F77F-23FE-4624-9D59-9686F6B46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11000"/>
            <a:ext cx="822960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82296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1100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82296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BF81-4E2C-4F6C-A331-6CFAD7C8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6840" y="-360"/>
            <a:ext cx="624852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1100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93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1100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93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1100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9360"/>
            <a:ext cx="822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822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9360"/>
            <a:ext cx="822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1100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93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93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1100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1100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936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936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936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58CB21-3EAE-408E-8E21-DE51E8BC49E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11000"/>
            <a:ext cx="822960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62CCD0-161B-41BB-93C5-9DB70943A48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82296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047256-6D7B-40CB-9F00-0114B92BA9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1100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B0D1-6315-42A3-BF3C-CE82237B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1100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0A1323-5D6F-4BE0-AB27-3ED2BC5344A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CC4A48-90B2-403F-A66B-F018FA51DEF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6840" y="-360"/>
            <a:ext cx="624852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0F764D-64CB-4F08-8EF0-03C80DFA2F1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1100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93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542FBB-9E0F-4E50-B92C-E620B4E720A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1100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93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3B1350-2ACF-4D1E-947E-4BA5FAB557B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1100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9360"/>
            <a:ext cx="822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BF1454-D6A2-4773-AD32-9E6ADAAB3E3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822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9360"/>
            <a:ext cx="822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E32C79-CDC3-4F79-8211-322E073FDE5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1100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93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93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2AD84B-0F33-4695-8319-DC6AADD5438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1100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1100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936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936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936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67934A-A373-4C5A-9522-3AA18A62A2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AE70-842F-44CC-AD5D-1B422E49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-360"/>
            <a:ext cx="624852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2E81-A834-4756-9715-6E7B73E7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1100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93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58F8-1D16-49FD-ABD3-9890FAFB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1100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93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64D3-985D-4E50-9113-43B77FB2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1100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1100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9360"/>
            <a:ext cx="822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CFDE-3669-4D46-9EE8-B4E5B2EA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DE38-4993-4488-8AAC-4F3A840E4B3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611000"/>
            <a:ext cx="82296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solidFill>
            <a:srgbClr val="686b5d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67A9-D41E-46AF-BC51-40EEC38C57A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7" descr="2colinform2"/>
          <p:cNvPicPr/>
          <p:nvPr/>
        </p:nvPicPr>
        <p:blipFill>
          <a:blip r:embed="rId2"/>
          <a:stretch/>
        </p:blipFill>
        <p:spPr>
          <a:xfrm>
            <a:off x="14400" y="6338880"/>
            <a:ext cx="495360" cy="50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8"/>
          <p:cNvSpPr/>
          <p:nvPr/>
        </p:nvSpPr>
        <p:spPr>
          <a:xfrm>
            <a:off x="0" y="6294600"/>
            <a:ext cx="528480" cy="563400"/>
          </a:xfrm>
          <a:prstGeom prst="rect">
            <a:avLst/>
          </a:prstGeom>
          <a:solidFill>
            <a:srgbClr val="fffff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0" y="1311120"/>
            <a:ext cx="9144000" cy="1080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8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0" y="6195960"/>
            <a:ext cx="9144000" cy="1080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333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1" descr="logo-mttc grey"/>
          <p:cNvPicPr/>
          <p:nvPr/>
        </p:nvPicPr>
        <p:blipFill>
          <a:blip r:embed="rId3"/>
          <a:stretch/>
        </p:blipFill>
        <p:spPr>
          <a:xfrm>
            <a:off x="6794640" y="50760"/>
            <a:ext cx="2286000" cy="65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2colinform2"/>
          <p:cNvPicPr/>
          <p:nvPr/>
        </p:nvPicPr>
        <p:blipFill>
          <a:blip r:embed="rId2"/>
          <a:stretch/>
        </p:blipFill>
        <p:spPr>
          <a:xfrm>
            <a:off x="14400" y="6338880"/>
            <a:ext cx="495360" cy="5047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5"/>
          <p:cNvSpPr/>
          <p:nvPr/>
        </p:nvSpPr>
        <p:spPr>
          <a:xfrm>
            <a:off x="0" y="6294600"/>
            <a:ext cx="528480" cy="563400"/>
          </a:xfrm>
          <a:prstGeom prst="rect">
            <a:avLst/>
          </a:prstGeom>
          <a:solidFill>
            <a:srgbClr val="fffff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logo-mttc grey"/>
          <p:cNvPicPr/>
          <p:nvPr/>
        </p:nvPicPr>
        <p:blipFill>
          <a:blip r:embed="rId3"/>
          <a:stretch/>
        </p:blipFill>
        <p:spPr>
          <a:xfrm>
            <a:off x="4241880" y="88920"/>
            <a:ext cx="4800600" cy="1378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7"/>
          <p:cNvSpPr/>
          <p:nvPr/>
        </p:nvSpPr>
        <p:spPr>
          <a:xfrm>
            <a:off x="0" y="1665360"/>
            <a:ext cx="9144000" cy="1681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8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 rot="16200000">
            <a:off x="-2813400" y="3339000"/>
            <a:ext cx="6870600" cy="16668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457200" y="1611000"/>
            <a:ext cx="82296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solidFill>
            <a:srgbClr val="686b5d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e9ea">
            <a:alpha val="9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C:\Users\nick\Dropbox\Mobi Ticket\Branding\m\mticket_pink.png"/>
          <p:cNvPicPr/>
          <p:nvPr/>
        </p:nvPicPr>
        <p:blipFill>
          <a:blip r:embed="rId2"/>
          <a:stretch/>
        </p:blipFill>
        <p:spPr>
          <a:xfrm>
            <a:off x="177840" y="6066000"/>
            <a:ext cx="679320" cy="679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C:\Users\nick\Dropbox\Mobi Ticket\Branding\logos\green_pink.png"/>
          <p:cNvPicPr/>
          <p:nvPr/>
        </p:nvPicPr>
        <p:blipFill>
          <a:blip r:embed="rId3"/>
          <a:stretch/>
        </p:blipFill>
        <p:spPr>
          <a:xfrm>
            <a:off x="6578640" y="442800"/>
            <a:ext cx="2333520" cy="398520"/>
          </a:xfrm>
          <a:prstGeom prst="rect">
            <a:avLst/>
          </a:prstGeom>
          <a:ln w="0">
            <a:noFill/>
          </a:ln>
        </p:spPr>
      </p:pic>
      <p:sp>
        <p:nvSpPr>
          <p:cNvPr id="132" name="Straight Connector 13"/>
          <p:cNvSpPr/>
          <p:nvPr/>
        </p:nvSpPr>
        <p:spPr>
          <a:xfrm>
            <a:off x="-15840" y="1440000"/>
            <a:ext cx="9159840" cy="0"/>
          </a:xfrm>
          <a:prstGeom prst="line">
            <a:avLst/>
          </a:prstGeom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14"/>
          <p:cNvSpPr/>
          <p:nvPr/>
        </p:nvSpPr>
        <p:spPr>
          <a:xfrm>
            <a:off x="-7920" y="5907240"/>
            <a:ext cx="9159840" cy="0"/>
          </a:xfrm>
          <a:prstGeom prst="line">
            <a:avLst/>
          </a:prstGeom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457200" y="1611000"/>
            <a:ext cx="82296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1211400"/>
          </a:xfrm>
          <a:prstGeom prst="rect">
            <a:avLst/>
          </a:prstGeom>
          <a:solidFill>
            <a:srgbClr val="686b5d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4CDF-C662-4AC1-9B9C-3180BF6C89CE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2087640" y="2957040"/>
            <a:ext cx="8593200" cy="10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rebuchet MS"/>
              </a:rPr>
              <a:t>Nickson Nyakambi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rebuchet MS"/>
              </a:rPr>
              <a:t>Chief Executive</a:t>
            </a:r>
            <a:r>
              <a:rPr b="0" i="1" lang="en-US" sz="28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pic>
        <p:nvPicPr>
          <p:cNvPr id="181" name="Picture 3" descr="C:\Users\nick\Dropbox\Mobi Ticket\Branding\m\mticket_pink.png"/>
          <p:cNvPicPr/>
          <p:nvPr/>
        </p:nvPicPr>
        <p:blipFill>
          <a:blip r:embed="rId1"/>
          <a:stretch/>
        </p:blipFill>
        <p:spPr>
          <a:xfrm>
            <a:off x="5553000" y="30672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" descr=""/>
          <p:cNvPicPr/>
          <p:nvPr/>
        </p:nvPicPr>
        <p:blipFill>
          <a:blip r:embed="rId2"/>
          <a:stretch/>
        </p:blipFill>
        <p:spPr>
          <a:xfrm>
            <a:off x="6870600" y="830160"/>
            <a:ext cx="1971720" cy="5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3096720" y="2979720"/>
            <a:ext cx="5278680" cy="16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Nickson Nyakambi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Chief Executive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nickson@mobiticket.co.ke</a:t>
            </a:r>
            <a:endParaRPr b="0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pic>
        <p:nvPicPr>
          <p:cNvPr id="295" name="Picture 3" descr="C:\Users\nick\Dropbox\Mobi Ticket\Branding\m\mticket_pink.png"/>
          <p:cNvPicPr/>
          <p:nvPr/>
        </p:nvPicPr>
        <p:blipFill>
          <a:blip r:embed="rId1"/>
          <a:stretch/>
        </p:blipFill>
        <p:spPr>
          <a:xfrm>
            <a:off x="1576440" y="3078000"/>
            <a:ext cx="1298520" cy="13003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" descr=""/>
          <p:cNvPicPr/>
          <p:nvPr/>
        </p:nvPicPr>
        <p:blipFill>
          <a:blip r:embed="rId2"/>
          <a:stretch/>
        </p:blipFill>
        <p:spPr>
          <a:xfrm>
            <a:off x="6870600" y="830160"/>
            <a:ext cx="1971720" cy="5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539040" cy="127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rebuchet MS"/>
              </a:rPr>
              <a:t>Background</a:t>
            </a: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9280" y="2209680"/>
            <a:ext cx="460692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GDP of USD67.5 billion (2015)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Annual growth of 5% promises to double the economy by 2030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Implications will be: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rebuchet MS"/>
              </a:rPr>
              <a:t>Increased demand for private vehicle ownership</a:t>
            </a:r>
            <a:endParaRPr b="0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rebuchet MS"/>
              </a:rPr>
              <a:t>Increased value of time leading to trade off between price and time in the choice of mode</a:t>
            </a:r>
            <a:endParaRPr b="0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rebuchet MS"/>
              </a:rPr>
              <a:t>Increased ability to pay for transport</a:t>
            </a:r>
            <a:endParaRPr b="0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rebuchet MS"/>
            </a:endParaRPr>
          </a:p>
        </p:txBody>
      </p:sp>
      <p:pic>
        <p:nvPicPr>
          <p:cNvPr id="185" name="Picture 9" descr=""/>
          <p:cNvPicPr/>
          <p:nvPr/>
        </p:nvPicPr>
        <p:blipFill>
          <a:blip r:embed="rId1"/>
          <a:stretch/>
        </p:blipFill>
        <p:spPr>
          <a:xfrm>
            <a:off x="5284800" y="3282840"/>
            <a:ext cx="3852720" cy="2592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Related image"/>
          <p:cNvPicPr/>
          <p:nvPr/>
        </p:nvPicPr>
        <p:blipFill>
          <a:blip r:embed="rId2"/>
          <a:stretch/>
        </p:blipFill>
        <p:spPr>
          <a:xfrm>
            <a:off x="5267160" y="1486080"/>
            <a:ext cx="3876840" cy="1827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" descr=""/>
          <p:cNvPicPr/>
          <p:nvPr/>
        </p:nvPicPr>
        <p:blipFill>
          <a:blip r:embed="rId3"/>
          <a:stretch/>
        </p:blipFill>
        <p:spPr>
          <a:xfrm>
            <a:off x="6870600" y="830160"/>
            <a:ext cx="1971720" cy="5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539040" cy="127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rebuchet MS"/>
              </a:rPr>
              <a:t>Background cont…</a:t>
            </a: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9280" y="2209680"/>
            <a:ext cx="460692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Population expected to grow by at least 30% by 2030, 2050 etc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Changing population structure to 35/65 (2030) and 50/50 (2050) from the current 25/75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Nairobi’s population will be at least 10million people by 2030 contributing to the scale of transportation challenges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</p:txBody>
      </p:sp>
      <p:pic>
        <p:nvPicPr>
          <p:cNvPr id="190" name="Picture 1" descr=""/>
          <p:cNvPicPr/>
          <p:nvPr/>
        </p:nvPicPr>
        <p:blipFill>
          <a:blip r:embed="rId1"/>
          <a:stretch/>
        </p:blipFill>
        <p:spPr>
          <a:xfrm>
            <a:off x="6870600" y="830160"/>
            <a:ext cx="1971720" cy="54468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3" descr="C:\Users\NYAKAMBINICK\Dropbox\South Africa Visa 2018 November\download.jpg"/>
          <p:cNvPicPr/>
          <p:nvPr/>
        </p:nvPicPr>
        <p:blipFill>
          <a:blip r:embed="rId2"/>
          <a:stretch/>
        </p:blipFill>
        <p:spPr>
          <a:xfrm>
            <a:off x="5738760" y="2405160"/>
            <a:ext cx="2840040" cy="28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539040" cy="127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rebuchet MS"/>
              </a:rPr>
              <a:t>Solutions</a:t>
            </a: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39280" y="2209680"/>
            <a:ext cx="460692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Mass rapid transit/BRT/Ecomobility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E-Payments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Data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Integrated ticketing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Political will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</p:txBody>
      </p:sp>
      <p:pic>
        <p:nvPicPr>
          <p:cNvPr id="195" name="Picture 1" descr=""/>
          <p:cNvPicPr/>
          <p:nvPr/>
        </p:nvPicPr>
        <p:blipFill>
          <a:blip r:embed="rId1"/>
          <a:stretch/>
        </p:blipFill>
        <p:spPr>
          <a:xfrm>
            <a:off x="6870600" y="830160"/>
            <a:ext cx="1971720" cy="5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Freeform 7"/>
          <p:cNvGrpSpPr/>
          <p:nvPr/>
        </p:nvGrpSpPr>
        <p:grpSpPr>
          <a:xfrm>
            <a:off x="5694480" y="1792440"/>
            <a:ext cx="919080" cy="907920"/>
            <a:chOff x="5694480" y="1792440"/>
            <a:chExt cx="919080" cy="907920"/>
          </a:xfrm>
        </p:grpSpPr>
        <p:pic>
          <p:nvPicPr>
            <p:cNvPr id="197" name="Freeform 7" descr=""/>
            <p:cNvPicPr/>
            <p:nvPr/>
          </p:nvPicPr>
          <p:blipFill>
            <a:blip r:embed="rId1"/>
            <a:stretch/>
          </p:blipFill>
          <p:spPr>
            <a:xfrm>
              <a:off x="5694480" y="1792440"/>
              <a:ext cx="91908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5703840" y="1801800"/>
              <a:ext cx="903240" cy="8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Freeform 7"/>
          <p:cNvSpPr/>
          <p:nvPr/>
        </p:nvSpPr>
        <p:spPr>
          <a:xfrm>
            <a:off x="722160" y="2887560"/>
            <a:ext cx="901800" cy="8906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</a:path>
            </a:pathLst>
          </a:custGeom>
          <a:gradFill rotWithShape="0">
            <a:gsLst>
              <a:gs pos="0">
                <a:srgbClr val="9ba89e"/>
              </a:gs>
              <a:gs pos="100000">
                <a:srgbClr val="e2e5e3"/>
              </a:gs>
            </a:gsLst>
            <a:lin ang="81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7"/>
          <p:cNvSpPr/>
          <p:nvPr/>
        </p:nvSpPr>
        <p:spPr>
          <a:xfrm>
            <a:off x="2001960" y="1817640"/>
            <a:ext cx="903240" cy="8906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</a:path>
            </a:pathLst>
          </a:custGeom>
          <a:gradFill rotWithShape="0">
            <a:gsLst>
              <a:gs pos="0">
                <a:srgbClr val="9ba89e"/>
              </a:gs>
              <a:gs pos="100000">
                <a:srgbClr val="e2e5e3"/>
              </a:gs>
            </a:gsLst>
            <a:lin ang="27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941400" y="2022480"/>
            <a:ext cx="903240" cy="8906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</a:path>
            </a:pathLst>
          </a:custGeom>
          <a:gradFill rotWithShape="0">
            <a:gsLst>
              <a:gs pos="0">
                <a:srgbClr val="9ba89e"/>
              </a:gs>
              <a:gs pos="100000">
                <a:srgbClr val="e2e5e3"/>
              </a:gs>
            </a:gsLst>
            <a:lin ang="81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4"/>
          <p:cNvSpPr/>
          <p:nvPr/>
        </p:nvSpPr>
        <p:spPr>
          <a:xfrm>
            <a:off x="1370160" y="2468520"/>
            <a:ext cx="1326960" cy="12542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</a:path>
            </a:pathLst>
          </a:custGeom>
          <a:solidFill>
            <a:srgbClr val="f1592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5"/>
          <p:cNvSpPr/>
          <p:nvPr/>
        </p:nvSpPr>
        <p:spPr>
          <a:xfrm>
            <a:off x="1424160" y="3554280"/>
            <a:ext cx="903240" cy="8906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</a:path>
            </a:pathLst>
          </a:custGeom>
          <a:solidFill>
            <a:srgbClr val="ffc42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6"/>
          <p:cNvSpPr/>
          <p:nvPr/>
        </p:nvSpPr>
        <p:spPr>
          <a:xfrm>
            <a:off x="2479680" y="2556000"/>
            <a:ext cx="903240" cy="8906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</a:path>
            </a:pathLst>
          </a:custGeom>
          <a:solidFill>
            <a:srgbClr val="ffc42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7"/>
          <p:cNvSpPr/>
          <p:nvPr/>
        </p:nvSpPr>
        <p:spPr>
          <a:xfrm>
            <a:off x="2254320" y="3382920"/>
            <a:ext cx="903240" cy="8906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</a:path>
            </a:pathLst>
          </a:custGeom>
          <a:solidFill>
            <a:srgbClr val="ffc42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2"/>
          <p:cNvSpPr/>
          <p:nvPr/>
        </p:nvSpPr>
        <p:spPr>
          <a:xfrm>
            <a:off x="1370160" y="3828960"/>
            <a:ext cx="957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62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Kontrapunkt Bob"/>
              </a:rPr>
              <a:t>Zimbab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2009880" y="3670200"/>
            <a:ext cx="13953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62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Kontrapunkt Bob"/>
              </a:rPr>
              <a:t>Ke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2266920" y="2854440"/>
            <a:ext cx="13273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62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Kontrapunkt Bob"/>
              </a:rPr>
              <a:t>Rwa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7"/>
          <p:cNvSpPr/>
          <p:nvPr/>
        </p:nvSpPr>
        <p:spPr>
          <a:xfrm>
            <a:off x="1509840" y="2851200"/>
            <a:ext cx="927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686b5d"/>
                </a:solidFill>
                <a:latin typeface="Aller Light"/>
              </a:rPr>
              <a:t>3 Yea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686b5d"/>
                </a:solidFill>
                <a:latin typeface="Aller Light"/>
              </a:rPr>
              <a:t>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3"/>
          <p:cNvSpPr/>
          <p:nvPr/>
        </p:nvSpPr>
        <p:spPr>
          <a:xfrm>
            <a:off x="631800" y="1227240"/>
            <a:ext cx="775800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4"/>
          <p:cNvSpPr/>
          <p:nvPr/>
        </p:nvSpPr>
        <p:spPr>
          <a:xfrm>
            <a:off x="853920" y="2317680"/>
            <a:ext cx="90648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62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Kontrapunkt Bob"/>
              </a:rPr>
              <a:t>Tanz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4"/>
          <p:cNvSpPr/>
          <p:nvPr/>
        </p:nvSpPr>
        <p:spPr>
          <a:xfrm>
            <a:off x="1886040" y="2139840"/>
            <a:ext cx="11034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62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Kontrapunkt Bob"/>
              </a:rPr>
              <a:t>Uga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617400" y="1660680"/>
            <a:ext cx="3124440" cy="3027240"/>
          </a:xfrm>
          <a:prstGeom prst="rect">
            <a:avLst/>
          </a:prstGeom>
          <a:noFill/>
          <a:ln cap="sq" w="3240">
            <a:solidFill>
              <a:srgbClr val="f68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4"/>
          <p:cNvSpPr/>
          <p:nvPr/>
        </p:nvSpPr>
        <p:spPr>
          <a:xfrm>
            <a:off x="633240" y="3181320"/>
            <a:ext cx="90648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62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Kontrapunkt Bob"/>
              </a:rPr>
              <a:t>Gh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6"/>
          <p:cNvSpPr/>
          <p:nvPr/>
        </p:nvSpPr>
        <p:spPr>
          <a:xfrm>
            <a:off x="1882800" y="4521240"/>
            <a:ext cx="127476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596960"/>
                <a:tab algn="l" pos="2509920"/>
                <a:tab algn="l" pos="3422520"/>
                <a:tab algn="l" pos="4335480"/>
                <a:tab algn="l" pos="5248440"/>
                <a:tab algn="l" pos="6161040"/>
                <a:tab algn="l" pos="7074000"/>
                <a:tab algn="l" pos="7986600"/>
                <a:tab algn="l" pos="8899560"/>
                <a:tab algn="l" pos="9812160"/>
                <a:tab algn="l" pos="10725120"/>
              </a:tabLst>
            </a:pPr>
            <a:r>
              <a:rPr b="1" lang="en-GB" sz="1200" spc="-1" strike="noStrike">
                <a:solidFill>
                  <a:srgbClr val="00441f"/>
                </a:solidFill>
                <a:latin typeface="Kontrapunkt Bob"/>
              </a:rPr>
              <a:t>Our  Pres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4913280" y="2887560"/>
            <a:ext cx="901800" cy="8906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</a:path>
            </a:pathLst>
          </a:custGeom>
          <a:solidFill>
            <a:srgbClr val="f15d2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7"/>
          <p:cNvSpPr/>
          <p:nvPr/>
        </p:nvSpPr>
        <p:spPr>
          <a:xfrm>
            <a:off x="6192720" y="1817640"/>
            <a:ext cx="903240" cy="8906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</a:path>
            </a:pathLst>
          </a:custGeom>
          <a:solidFill>
            <a:srgbClr val="f15d2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7"/>
          <p:cNvSpPr/>
          <p:nvPr/>
        </p:nvSpPr>
        <p:spPr>
          <a:xfrm>
            <a:off x="5132520" y="2022480"/>
            <a:ext cx="903240" cy="8906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</a:path>
            </a:pathLst>
          </a:custGeom>
          <a:solidFill>
            <a:srgbClr val="f15d2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4"/>
          <p:cNvSpPr/>
          <p:nvPr/>
        </p:nvSpPr>
        <p:spPr>
          <a:xfrm>
            <a:off x="5560920" y="2468520"/>
            <a:ext cx="1327320" cy="12542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</a:path>
            </a:pathLst>
          </a:custGeom>
          <a:solidFill>
            <a:srgbClr val="686b5d"/>
          </a:solidFill>
          <a:ln w="12600">
            <a:solidFill>
              <a:srgbClr val="004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5"/>
          <p:cNvSpPr/>
          <p:nvPr/>
        </p:nvSpPr>
        <p:spPr>
          <a:xfrm>
            <a:off x="5614920" y="3554280"/>
            <a:ext cx="903240" cy="8906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</a:path>
            </a:pathLst>
          </a:custGeom>
          <a:solidFill>
            <a:srgbClr val="f15d2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6"/>
          <p:cNvSpPr/>
          <p:nvPr/>
        </p:nvSpPr>
        <p:spPr>
          <a:xfrm>
            <a:off x="6670800" y="2556000"/>
            <a:ext cx="903240" cy="8906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</a:path>
            </a:pathLst>
          </a:custGeom>
          <a:solidFill>
            <a:srgbClr val="f15d2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7"/>
          <p:cNvSpPr/>
          <p:nvPr/>
        </p:nvSpPr>
        <p:spPr>
          <a:xfrm>
            <a:off x="6445080" y="3382920"/>
            <a:ext cx="903600" cy="8906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</a:path>
            </a:pathLst>
          </a:custGeom>
          <a:solidFill>
            <a:srgbClr val="f15d2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2"/>
          <p:cNvSpPr/>
          <p:nvPr/>
        </p:nvSpPr>
        <p:spPr>
          <a:xfrm>
            <a:off x="5605560" y="3828960"/>
            <a:ext cx="8604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62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Kontrapunkt Bob"/>
              </a:rPr>
              <a:t>Insura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3"/>
          <p:cNvSpPr/>
          <p:nvPr/>
        </p:nvSpPr>
        <p:spPr>
          <a:xfrm>
            <a:off x="6200640" y="3670200"/>
            <a:ext cx="13957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62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Kontrapunkt Bob"/>
              </a:rPr>
              <a:t>E-gov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4"/>
          <p:cNvSpPr/>
          <p:nvPr/>
        </p:nvSpPr>
        <p:spPr>
          <a:xfrm>
            <a:off x="6458040" y="2739960"/>
            <a:ext cx="1326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62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Kontrapunkt Bob"/>
              </a:rPr>
              <a:t>Da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62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Kontrapunkt Bob"/>
              </a:rPr>
              <a:t>Analy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4"/>
          <p:cNvSpPr/>
          <p:nvPr/>
        </p:nvSpPr>
        <p:spPr>
          <a:xfrm>
            <a:off x="5057640" y="2200320"/>
            <a:ext cx="108288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62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Kontrapunkt Bob"/>
              </a:rPr>
              <a:t>E-Ticke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4"/>
          <p:cNvSpPr/>
          <p:nvPr/>
        </p:nvSpPr>
        <p:spPr>
          <a:xfrm>
            <a:off x="6066000" y="2025720"/>
            <a:ext cx="110484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62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Kontrapunkt Bob"/>
              </a:rPr>
              <a:t>E-Pay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4808520" y="1660680"/>
            <a:ext cx="3124080" cy="3027240"/>
          </a:xfrm>
          <a:prstGeom prst="rect">
            <a:avLst/>
          </a:prstGeom>
          <a:noFill/>
          <a:ln cap="sq" w="3240">
            <a:solidFill>
              <a:srgbClr val="f68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4"/>
          <p:cNvSpPr/>
          <p:nvPr/>
        </p:nvSpPr>
        <p:spPr>
          <a:xfrm>
            <a:off x="4857840" y="3076560"/>
            <a:ext cx="9064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62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Kontrapunkt Bob"/>
              </a:rPr>
              <a:t>E-Disbu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6"/>
          <p:cNvSpPr/>
          <p:nvPr/>
        </p:nvSpPr>
        <p:spPr>
          <a:xfrm>
            <a:off x="5560920" y="4521240"/>
            <a:ext cx="203544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596960"/>
                <a:tab algn="l" pos="2509920"/>
                <a:tab algn="l" pos="3422520"/>
                <a:tab algn="l" pos="4335480"/>
                <a:tab algn="l" pos="5248440"/>
                <a:tab algn="l" pos="6161040"/>
                <a:tab algn="l" pos="7074000"/>
                <a:tab algn="l" pos="7986600"/>
                <a:tab algn="l" pos="8899560"/>
                <a:tab algn="l" pos="9812160"/>
                <a:tab algn="l" pos="10725120"/>
              </a:tabLst>
            </a:pPr>
            <a:r>
              <a:rPr b="1" lang="en-GB" sz="1200" spc="-1" strike="noStrike">
                <a:solidFill>
                  <a:srgbClr val="00441f"/>
                </a:solidFill>
                <a:latin typeface="Kontrapunkt Bob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5"/>
          <p:cNvSpPr/>
          <p:nvPr/>
        </p:nvSpPr>
        <p:spPr>
          <a:xfrm>
            <a:off x="1539720" y="5568840"/>
            <a:ext cx="582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62123"/>
                </a:solidFill>
                <a:latin typeface="Kontrapunkt Bob Light"/>
              </a:rPr>
              <a:t>About Mobiticket/Jmabop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4" descr=""/>
          <p:cNvPicPr/>
          <p:nvPr/>
        </p:nvPicPr>
        <p:blipFill>
          <a:blip r:embed="rId2"/>
          <a:stretch/>
        </p:blipFill>
        <p:spPr>
          <a:xfrm>
            <a:off x="631800" y="4862520"/>
            <a:ext cx="1041480" cy="69228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12"/>
          <p:cNvSpPr/>
          <p:nvPr/>
        </p:nvSpPr>
        <p:spPr>
          <a:xfrm>
            <a:off x="227160" y="5502240"/>
            <a:ext cx="18288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62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1d1cb"/>
                </a:solidFill>
                <a:latin typeface="Kontrapunkt Bob"/>
              </a:rPr>
              <a:t>A Kenyan Compa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1" descr="C:\Users\NYAKAMBINICK\Dropbox\Mobi Ticket\Branding\logos\green_pink - Copy (2).png"/>
          <p:cNvPicPr/>
          <p:nvPr/>
        </p:nvPicPr>
        <p:blipFill>
          <a:blip r:embed="rId3"/>
          <a:stretch/>
        </p:blipFill>
        <p:spPr>
          <a:xfrm>
            <a:off x="5618160" y="3056040"/>
            <a:ext cx="1073160" cy="183960"/>
          </a:xfrm>
          <a:prstGeom prst="rect">
            <a:avLst/>
          </a:prstGeom>
          <a:ln w="0">
            <a:noFill/>
          </a:ln>
        </p:spPr>
      </p:pic>
      <p:sp>
        <p:nvSpPr>
          <p:cNvPr id="235" name="Title 1"/>
          <p:cNvSpPr/>
          <p:nvPr/>
        </p:nvSpPr>
        <p:spPr>
          <a:xfrm>
            <a:off x="152280" y="0"/>
            <a:ext cx="653904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rebuchet MS"/>
              </a:rPr>
              <a:t>Solutions cont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" descr=""/>
          <p:cNvPicPr/>
          <p:nvPr/>
        </p:nvPicPr>
        <p:blipFill>
          <a:blip r:embed="rId4"/>
          <a:stretch/>
        </p:blipFill>
        <p:spPr>
          <a:xfrm>
            <a:off x="6870600" y="830160"/>
            <a:ext cx="1971720" cy="5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666120" cy="121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rebuchet MS"/>
              </a:rPr>
              <a:t>Solutions cont…</a:t>
            </a: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38" name="Text Box 1"/>
          <p:cNvSpPr/>
          <p:nvPr/>
        </p:nvSpPr>
        <p:spPr>
          <a:xfrm>
            <a:off x="819000" y="1249200"/>
            <a:ext cx="775836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4120"/>
                <a:tab algn="l" pos="2736720"/>
                <a:tab algn="l" pos="3649680"/>
                <a:tab algn="l" pos="4562640"/>
                <a:tab algn="l" pos="5475240"/>
                <a:tab algn="l" pos="6388200"/>
                <a:tab algn="l" pos="7300800"/>
                <a:tab algn="l" pos="8213760"/>
                <a:tab algn="l" pos="9126360"/>
                <a:tab algn="l" pos="10039320"/>
                <a:tab algn="l" pos="10952280"/>
              </a:tabLst>
            </a:pPr>
            <a:r>
              <a:rPr b="0" lang="en-GB" sz="1800" spc="-1" strike="noStrike">
                <a:solidFill>
                  <a:srgbClr val="762123"/>
                </a:solidFill>
                <a:latin typeface="Kontrapunkt Bob Light"/>
              </a:rPr>
              <a:t>Multi Channel electronic Ticketing &amp; Payment Syst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2"/>
          <p:cNvGrpSpPr/>
          <p:nvPr/>
        </p:nvGrpSpPr>
        <p:grpSpPr>
          <a:xfrm>
            <a:off x="3417840" y="2622600"/>
            <a:ext cx="2311560" cy="2309760"/>
            <a:chOff x="3417840" y="2622600"/>
            <a:chExt cx="2311560" cy="2309760"/>
          </a:xfrm>
        </p:grpSpPr>
        <p:sp>
          <p:nvSpPr>
            <p:cNvPr id="240" name="Freeform 3"/>
            <p:cNvSpPr/>
            <p:nvPr/>
          </p:nvSpPr>
          <p:spPr>
            <a:xfrm>
              <a:off x="3417840" y="2622600"/>
              <a:ext cx="2311560" cy="230976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</a:path>
              </a:pathLst>
            </a:custGeom>
            <a:noFill/>
            <a:ln w="3240">
              <a:solidFill>
                <a:srgbClr val="f68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4"/>
            <p:cNvSpPr/>
            <p:nvPr/>
          </p:nvSpPr>
          <p:spPr>
            <a:xfrm>
              <a:off x="3892680" y="3092400"/>
              <a:ext cx="1365120" cy="13654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a883"/>
                </a:gs>
                <a:gs pos="100000">
                  <a:srgbClr val="ffe4d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Rectangle 5"/>
          <p:cNvSpPr/>
          <p:nvPr/>
        </p:nvSpPr>
        <p:spPr>
          <a:xfrm>
            <a:off x="819000" y="2617920"/>
            <a:ext cx="2417760" cy="995400"/>
          </a:xfrm>
          <a:prstGeom prst="rect">
            <a:avLst/>
          </a:prstGeom>
          <a:noFill/>
          <a:ln cap="sq" w="3240">
            <a:solidFill>
              <a:srgbClr val="f68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819000" y="3943440"/>
            <a:ext cx="2417760" cy="995400"/>
          </a:xfrm>
          <a:prstGeom prst="rect">
            <a:avLst/>
          </a:prstGeom>
          <a:noFill/>
          <a:ln cap="sq" w="3240">
            <a:solidFill>
              <a:srgbClr val="f68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5911920" y="2617920"/>
            <a:ext cx="2417760" cy="995400"/>
          </a:xfrm>
          <a:prstGeom prst="rect">
            <a:avLst/>
          </a:prstGeom>
          <a:noFill/>
          <a:ln cap="sq" w="3240">
            <a:solidFill>
              <a:srgbClr val="f68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5911920" y="3943440"/>
            <a:ext cx="2347920" cy="704880"/>
          </a:xfrm>
          <a:prstGeom prst="rect">
            <a:avLst/>
          </a:prstGeom>
          <a:noFill/>
          <a:ln cap="sq" w="3240">
            <a:solidFill>
              <a:srgbClr val="f68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0"/>
          <p:cNvSpPr/>
          <p:nvPr/>
        </p:nvSpPr>
        <p:spPr>
          <a:xfrm>
            <a:off x="2992320" y="3121200"/>
            <a:ext cx="498600" cy="4982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</a:path>
            </a:pathLst>
          </a:custGeom>
          <a:solidFill>
            <a:srgbClr val="f15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13"/>
          <p:cNvSpPr/>
          <p:nvPr/>
        </p:nvSpPr>
        <p:spPr>
          <a:xfrm>
            <a:off x="3006720" y="3938760"/>
            <a:ext cx="498600" cy="4982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</a:path>
            </a:pathLst>
          </a:custGeom>
          <a:solidFill>
            <a:srgbClr val="f15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16"/>
          <p:cNvSpPr/>
          <p:nvPr/>
        </p:nvSpPr>
        <p:spPr>
          <a:xfrm>
            <a:off x="5591160" y="3908520"/>
            <a:ext cx="498600" cy="4982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</a:path>
            </a:pathLst>
          </a:custGeom>
          <a:solidFill>
            <a:srgbClr val="f15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19"/>
          <p:cNvSpPr/>
          <p:nvPr/>
        </p:nvSpPr>
        <p:spPr>
          <a:xfrm>
            <a:off x="5656320" y="3114720"/>
            <a:ext cx="498240" cy="498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</a:path>
            </a:pathLst>
          </a:custGeom>
          <a:solidFill>
            <a:srgbClr val="f15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1"/>
          <p:cNvSpPr/>
          <p:nvPr/>
        </p:nvSpPr>
        <p:spPr>
          <a:xfrm>
            <a:off x="6192720" y="2774880"/>
            <a:ext cx="2067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7f7f7f"/>
                </a:solidFill>
                <a:latin typeface="Aller Light"/>
              </a:rPr>
              <a:t>22 Banks integrated as ag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7f7f7f"/>
                </a:solidFill>
                <a:latin typeface="Aller Light"/>
              </a:rPr>
              <a:t>Over Counter Pay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7f7f7f"/>
                </a:solidFill>
                <a:latin typeface="Aller Light"/>
              </a:rPr>
              <a:t>Internet Ban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7f7f7f"/>
                </a:solidFill>
                <a:latin typeface="Aller Light"/>
              </a:rPr>
              <a:t>Mobile Ban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2"/>
          <p:cNvSpPr/>
          <p:nvPr/>
        </p:nvSpPr>
        <p:spPr>
          <a:xfrm>
            <a:off x="919080" y="2793960"/>
            <a:ext cx="2073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7f7f7f"/>
                </a:solidFill>
                <a:latin typeface="Aller Light"/>
              </a:rPr>
              <a:t>Andro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7f7f7f"/>
                </a:solidFill>
                <a:latin typeface="Aller Light"/>
              </a:rPr>
              <a:t>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7f7f7f"/>
                </a:solidFill>
                <a:latin typeface="Aller Light"/>
              </a:rPr>
              <a:t>USS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7f7f7f"/>
                </a:solidFill>
                <a:latin typeface="Aller Light"/>
              </a:rPr>
              <a:t>Windo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3"/>
          <p:cNvSpPr/>
          <p:nvPr/>
        </p:nvSpPr>
        <p:spPr>
          <a:xfrm>
            <a:off x="1066680" y="2482920"/>
            <a:ext cx="76212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596960"/>
                <a:tab algn="l" pos="2509920"/>
                <a:tab algn="l" pos="3422520"/>
                <a:tab algn="l" pos="4335480"/>
                <a:tab algn="l" pos="5248440"/>
                <a:tab algn="l" pos="6161040"/>
                <a:tab algn="l" pos="7074000"/>
                <a:tab algn="l" pos="7986600"/>
                <a:tab algn="l" pos="8899560"/>
                <a:tab algn="l" pos="9812160"/>
                <a:tab algn="l" pos="10725120"/>
              </a:tabLst>
            </a:pPr>
            <a:r>
              <a:rPr b="1" lang="en-GB" sz="1200" spc="-1" strike="noStrike">
                <a:solidFill>
                  <a:srgbClr val="762123"/>
                </a:solidFill>
                <a:latin typeface="Kontrapunkt Bob"/>
              </a:rPr>
              <a:t>Mo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4"/>
          <p:cNvSpPr/>
          <p:nvPr/>
        </p:nvSpPr>
        <p:spPr>
          <a:xfrm>
            <a:off x="6127920" y="3941640"/>
            <a:ext cx="214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7f7f7f"/>
                </a:solidFill>
                <a:latin typeface="Aller Light"/>
              </a:rPr>
              <a:t>Ag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7f7f7f"/>
                </a:solidFill>
                <a:latin typeface="Aller Light"/>
              </a:rPr>
              <a:t>Agents earn Com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5"/>
          <p:cNvSpPr/>
          <p:nvPr/>
        </p:nvSpPr>
        <p:spPr>
          <a:xfrm>
            <a:off x="965160" y="4068720"/>
            <a:ext cx="2073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7f7f7f"/>
                </a:solidFill>
                <a:latin typeface="Aller Light"/>
              </a:rPr>
              <a:t>Web based channel, MasterCard, M-PESA, VISA, Airtel Money, Other Debit C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6"/>
          <p:cNvSpPr/>
          <p:nvPr/>
        </p:nvSpPr>
        <p:spPr>
          <a:xfrm>
            <a:off x="1192320" y="4805280"/>
            <a:ext cx="56016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596960"/>
                <a:tab algn="l" pos="2509920"/>
                <a:tab algn="l" pos="3422520"/>
                <a:tab algn="l" pos="4335480"/>
                <a:tab algn="l" pos="5248440"/>
                <a:tab algn="l" pos="6161040"/>
                <a:tab algn="l" pos="7074000"/>
                <a:tab algn="l" pos="7986600"/>
                <a:tab algn="l" pos="8899560"/>
                <a:tab algn="l" pos="9812160"/>
                <a:tab algn="l" pos="10725120"/>
              </a:tabLst>
            </a:pPr>
            <a:r>
              <a:rPr b="1" lang="en-GB" sz="1200" spc="-1" strike="noStrike">
                <a:solidFill>
                  <a:srgbClr val="762123"/>
                </a:solidFill>
                <a:latin typeface="Kontrapunkt Bob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7"/>
          <p:cNvSpPr/>
          <p:nvPr/>
        </p:nvSpPr>
        <p:spPr>
          <a:xfrm>
            <a:off x="6781680" y="2479680"/>
            <a:ext cx="60984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596960"/>
                <a:tab algn="l" pos="2509920"/>
                <a:tab algn="l" pos="3422520"/>
                <a:tab algn="l" pos="4335480"/>
                <a:tab algn="l" pos="5248440"/>
                <a:tab algn="l" pos="6161040"/>
                <a:tab algn="l" pos="7074000"/>
                <a:tab algn="l" pos="7986600"/>
                <a:tab algn="l" pos="8899560"/>
                <a:tab algn="l" pos="9812160"/>
                <a:tab algn="l" pos="10725120"/>
              </a:tabLst>
            </a:pPr>
            <a:r>
              <a:rPr b="1" lang="en-GB" sz="1200" spc="-1" strike="noStrike">
                <a:solidFill>
                  <a:srgbClr val="762123"/>
                </a:solidFill>
                <a:latin typeface="Kontrapunkt Bob"/>
              </a:rPr>
              <a:t>Ba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8"/>
          <p:cNvSpPr/>
          <p:nvPr/>
        </p:nvSpPr>
        <p:spPr>
          <a:xfrm>
            <a:off x="6593040" y="4473720"/>
            <a:ext cx="79848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596960"/>
                <a:tab algn="l" pos="2509920"/>
                <a:tab algn="l" pos="3422520"/>
                <a:tab algn="l" pos="4335480"/>
                <a:tab algn="l" pos="5248440"/>
                <a:tab algn="l" pos="6161040"/>
                <a:tab algn="l" pos="7074000"/>
                <a:tab algn="l" pos="7986600"/>
                <a:tab algn="l" pos="8899560"/>
                <a:tab algn="l" pos="9812160"/>
                <a:tab algn="l" pos="10725120"/>
              </a:tabLst>
            </a:pPr>
            <a:r>
              <a:rPr b="1" lang="en-GB" sz="1200" spc="-1" strike="noStrike">
                <a:solidFill>
                  <a:srgbClr val="762123"/>
                </a:solidFill>
                <a:latin typeface="Kontrapunkt Bob"/>
              </a:rPr>
              <a:t>A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35"/>
          <p:cNvSpPr/>
          <p:nvPr/>
        </p:nvSpPr>
        <p:spPr>
          <a:xfrm>
            <a:off x="5767560" y="3209760"/>
            <a:ext cx="284040" cy="255600"/>
          </a:xfrm>
          <a:custGeom>
            <a:avLst/>
            <a:gdLst/>
            <a:ahLst/>
            <a:rect l="l" t="t" r="r" b="b"/>
            <a:pathLst>
              <a:path w="21177" h="21458">
                <a:moveTo>
                  <a:pt x="20906" y="11130"/>
                </a:moveTo>
                <a:lnTo>
                  <a:pt x="11466" y="425"/>
                </a:lnTo>
                <a:cubicBezTo>
                  <a:pt x="10983" y="-142"/>
                  <a:pt x="10193" y="-142"/>
                  <a:pt x="9710" y="425"/>
                </a:cubicBezTo>
                <a:lnTo>
                  <a:pt x="271" y="11130"/>
                </a:lnTo>
                <a:cubicBezTo>
                  <a:pt x="-212" y="11696"/>
                  <a:pt x="-32" y="12160"/>
                  <a:pt x="671" y="12160"/>
                </a:cubicBezTo>
                <a:lnTo>
                  <a:pt x="2638" y="12160"/>
                </a:lnTo>
                <a:lnTo>
                  <a:pt x="2638" y="20381"/>
                </a:lnTo>
                <a:cubicBezTo>
                  <a:pt x="2638" y="20976"/>
                  <a:pt x="2661" y="21458"/>
                  <a:pt x="3609" y="21458"/>
                </a:cubicBezTo>
                <a:lnTo>
                  <a:pt x="8190" y="21458"/>
                </a:lnTo>
                <a:lnTo>
                  <a:pt x="8190" y="13214"/>
                </a:lnTo>
                <a:lnTo>
                  <a:pt x="12986" y="13214"/>
                </a:lnTo>
                <a:lnTo>
                  <a:pt x="12986" y="21458"/>
                </a:lnTo>
                <a:lnTo>
                  <a:pt x="17795" y="21458"/>
                </a:lnTo>
                <a:cubicBezTo>
                  <a:pt x="18518" y="21458"/>
                  <a:pt x="18538" y="20976"/>
                  <a:pt x="18538" y="20381"/>
                </a:cubicBezTo>
                <a:lnTo>
                  <a:pt x="18538" y="12160"/>
                </a:lnTo>
                <a:lnTo>
                  <a:pt x="20505" y="12160"/>
                </a:lnTo>
                <a:cubicBezTo>
                  <a:pt x="21208" y="12160"/>
                  <a:pt x="21388" y="11696"/>
                  <a:pt x="20906" y="111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27"/>
          <p:cNvSpPr/>
          <p:nvPr/>
        </p:nvSpPr>
        <p:spPr>
          <a:xfrm rot="1500000">
            <a:off x="3158640" y="3184560"/>
            <a:ext cx="147600" cy="30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95" y="1605"/>
                </a:moveTo>
                <a:lnTo>
                  <a:pt x="20607" y="1605"/>
                </a:lnTo>
                <a:lnTo>
                  <a:pt x="20607" y="18577"/>
                </a:lnTo>
                <a:lnTo>
                  <a:pt x="995" y="18577"/>
                </a:lnTo>
                <a:cubicBezTo>
                  <a:pt x="995" y="18577"/>
                  <a:pt x="995" y="1605"/>
                  <a:pt x="995" y="1605"/>
                </a:cubicBezTo>
                <a:close/>
                <a:moveTo>
                  <a:pt x="8887" y="19956"/>
                </a:moveTo>
                <a:cubicBezTo>
                  <a:pt x="8887" y="19388"/>
                  <a:pt x="9744" y="18926"/>
                  <a:pt x="10800" y="18926"/>
                </a:cubicBezTo>
                <a:cubicBezTo>
                  <a:pt x="11857" y="18926"/>
                  <a:pt x="12711" y="19388"/>
                  <a:pt x="12711" y="19956"/>
                </a:cubicBezTo>
                <a:cubicBezTo>
                  <a:pt x="12711" y="20523"/>
                  <a:pt x="11857" y="20985"/>
                  <a:pt x="10800" y="20985"/>
                </a:cubicBezTo>
                <a:cubicBezTo>
                  <a:pt x="9744" y="20985"/>
                  <a:pt x="8887" y="20523"/>
                  <a:pt x="8887" y="19956"/>
                </a:cubicBezTo>
                <a:close/>
                <a:moveTo>
                  <a:pt x="7563" y="895"/>
                </a:moveTo>
                <a:cubicBezTo>
                  <a:pt x="7563" y="948"/>
                  <a:pt x="7485" y="991"/>
                  <a:pt x="7385" y="991"/>
                </a:cubicBezTo>
                <a:lnTo>
                  <a:pt x="4303" y="991"/>
                </a:lnTo>
                <a:cubicBezTo>
                  <a:pt x="4206" y="991"/>
                  <a:pt x="4127" y="948"/>
                  <a:pt x="4127" y="895"/>
                </a:cubicBezTo>
                <a:cubicBezTo>
                  <a:pt x="4127" y="842"/>
                  <a:pt x="4206" y="800"/>
                  <a:pt x="4303" y="800"/>
                </a:cubicBezTo>
                <a:lnTo>
                  <a:pt x="7385" y="800"/>
                </a:lnTo>
                <a:cubicBezTo>
                  <a:pt x="7485" y="800"/>
                  <a:pt x="7563" y="842"/>
                  <a:pt x="7563" y="895"/>
                </a:cubicBezTo>
                <a:close/>
                <a:moveTo>
                  <a:pt x="3986" y="895"/>
                </a:moveTo>
                <a:cubicBezTo>
                  <a:pt x="3986" y="990"/>
                  <a:pt x="3843" y="1067"/>
                  <a:pt x="3667" y="1067"/>
                </a:cubicBezTo>
                <a:cubicBezTo>
                  <a:pt x="3492" y="1067"/>
                  <a:pt x="3349" y="990"/>
                  <a:pt x="3349" y="895"/>
                </a:cubicBezTo>
                <a:cubicBezTo>
                  <a:pt x="3349" y="802"/>
                  <a:pt x="3492" y="724"/>
                  <a:pt x="3667" y="724"/>
                </a:cubicBezTo>
                <a:cubicBezTo>
                  <a:pt x="3843" y="724"/>
                  <a:pt x="3986" y="802"/>
                  <a:pt x="3986" y="895"/>
                </a:cubicBezTo>
                <a:close/>
                <a:moveTo>
                  <a:pt x="0" y="924"/>
                </a:moveTo>
                <a:lnTo>
                  <a:pt x="0" y="20677"/>
                </a:lnTo>
                <a:cubicBezTo>
                  <a:pt x="0" y="21187"/>
                  <a:pt x="647" y="21600"/>
                  <a:pt x="1441" y="21600"/>
                </a:cubicBezTo>
                <a:lnTo>
                  <a:pt x="20162" y="21600"/>
                </a:lnTo>
                <a:cubicBezTo>
                  <a:pt x="20955" y="21600"/>
                  <a:pt x="21600" y="21187"/>
                  <a:pt x="21600" y="20677"/>
                </a:cubicBezTo>
                <a:lnTo>
                  <a:pt x="21600" y="924"/>
                </a:lnTo>
                <a:cubicBezTo>
                  <a:pt x="21600" y="414"/>
                  <a:pt x="20955" y="0"/>
                  <a:pt x="20162" y="0"/>
                </a:cubicBezTo>
                <a:lnTo>
                  <a:pt x="1441" y="0"/>
                </a:lnTo>
                <a:cubicBezTo>
                  <a:pt x="647" y="0"/>
                  <a:pt x="0" y="414"/>
                  <a:pt x="0" y="924"/>
                </a:cubicBez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1" descr=""/>
          <p:cNvPicPr/>
          <p:nvPr/>
        </p:nvPicPr>
        <p:blipFill>
          <a:blip r:embed="rId1"/>
          <a:stretch/>
        </p:blipFill>
        <p:spPr>
          <a:xfrm>
            <a:off x="3930480" y="3811680"/>
            <a:ext cx="1251000" cy="345960"/>
          </a:xfrm>
          <a:prstGeom prst="rect">
            <a:avLst/>
          </a:prstGeom>
          <a:ln w="0">
            <a:noFill/>
          </a:ln>
        </p:spPr>
      </p:pic>
      <p:sp>
        <p:nvSpPr>
          <p:cNvPr id="261" name="Freeform 23"/>
          <p:cNvSpPr/>
          <p:nvPr/>
        </p:nvSpPr>
        <p:spPr>
          <a:xfrm>
            <a:off x="5715000" y="4030560"/>
            <a:ext cx="230040" cy="255600"/>
          </a:xfrm>
          <a:custGeom>
            <a:avLst/>
            <a:gdLst/>
            <a:ahLst/>
            <a:rect l="l" t="t" r="r" b="b"/>
            <a:pathLst>
              <a:path w="21439" h="21600">
                <a:moveTo>
                  <a:pt x="1949" y="4372"/>
                </a:moveTo>
                <a:lnTo>
                  <a:pt x="4697" y="1415"/>
                </a:lnTo>
                <a:lnTo>
                  <a:pt x="16741" y="1415"/>
                </a:lnTo>
                <a:lnTo>
                  <a:pt x="19491" y="4372"/>
                </a:lnTo>
                <a:cubicBezTo>
                  <a:pt x="19491" y="4372"/>
                  <a:pt x="1949" y="4372"/>
                  <a:pt x="1949" y="4372"/>
                </a:cubicBezTo>
                <a:close/>
                <a:moveTo>
                  <a:pt x="10719" y="13845"/>
                </a:moveTo>
                <a:cubicBezTo>
                  <a:pt x="6671" y="13845"/>
                  <a:pt x="5805" y="7934"/>
                  <a:pt x="5625" y="6717"/>
                </a:cubicBezTo>
                <a:lnTo>
                  <a:pt x="7914" y="6717"/>
                </a:lnTo>
                <a:cubicBezTo>
                  <a:pt x="8259" y="8493"/>
                  <a:pt x="9043" y="11531"/>
                  <a:pt x="10719" y="11531"/>
                </a:cubicBezTo>
                <a:cubicBezTo>
                  <a:pt x="12396" y="11531"/>
                  <a:pt x="13179" y="8493"/>
                  <a:pt x="13526" y="6717"/>
                </a:cubicBezTo>
                <a:lnTo>
                  <a:pt x="15815" y="6717"/>
                </a:lnTo>
                <a:cubicBezTo>
                  <a:pt x="15635" y="7934"/>
                  <a:pt x="14767" y="13845"/>
                  <a:pt x="10719" y="13845"/>
                </a:cubicBezTo>
                <a:close/>
                <a:moveTo>
                  <a:pt x="20843" y="2658"/>
                </a:moveTo>
                <a:cubicBezTo>
                  <a:pt x="20474" y="2330"/>
                  <a:pt x="18467" y="762"/>
                  <a:pt x="18092" y="429"/>
                </a:cubicBezTo>
                <a:cubicBezTo>
                  <a:pt x="17718" y="94"/>
                  <a:pt x="17131" y="0"/>
                  <a:pt x="16718" y="0"/>
                </a:cubicBezTo>
                <a:lnTo>
                  <a:pt x="4722" y="0"/>
                </a:lnTo>
                <a:cubicBezTo>
                  <a:pt x="4309" y="0"/>
                  <a:pt x="3722" y="94"/>
                  <a:pt x="3347" y="429"/>
                </a:cubicBezTo>
                <a:cubicBezTo>
                  <a:pt x="2973" y="762"/>
                  <a:pt x="965" y="2330"/>
                  <a:pt x="597" y="2658"/>
                </a:cubicBezTo>
                <a:cubicBezTo>
                  <a:pt x="228" y="2986"/>
                  <a:pt x="-80" y="3482"/>
                  <a:pt x="19" y="4189"/>
                </a:cubicBezTo>
                <a:cubicBezTo>
                  <a:pt x="118" y="4897"/>
                  <a:pt x="2433" y="20868"/>
                  <a:pt x="2433" y="20868"/>
                </a:cubicBezTo>
                <a:cubicBezTo>
                  <a:pt x="2563" y="21270"/>
                  <a:pt x="3007" y="21600"/>
                  <a:pt x="3420" y="21600"/>
                </a:cubicBezTo>
                <a:lnTo>
                  <a:pt x="18020" y="21600"/>
                </a:lnTo>
                <a:cubicBezTo>
                  <a:pt x="18433" y="21600"/>
                  <a:pt x="18877" y="21270"/>
                  <a:pt x="19007" y="20868"/>
                </a:cubicBezTo>
                <a:cubicBezTo>
                  <a:pt x="19007" y="20868"/>
                  <a:pt x="21322" y="4897"/>
                  <a:pt x="21421" y="4189"/>
                </a:cubicBezTo>
                <a:cubicBezTo>
                  <a:pt x="21520" y="3482"/>
                  <a:pt x="21212" y="2986"/>
                  <a:pt x="20843" y="26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3"/>
          <p:cNvGrpSpPr/>
          <p:nvPr/>
        </p:nvGrpSpPr>
        <p:grpSpPr>
          <a:xfrm>
            <a:off x="3019320" y="4027320"/>
            <a:ext cx="417600" cy="271800"/>
            <a:chOff x="3019320" y="4027320"/>
            <a:chExt cx="417600" cy="271800"/>
          </a:xfrm>
        </p:grpSpPr>
        <p:grpSp>
          <p:nvGrpSpPr>
            <p:cNvPr id="263" name="Group 2"/>
            <p:cNvGrpSpPr/>
            <p:nvPr/>
          </p:nvGrpSpPr>
          <p:grpSpPr>
            <a:xfrm>
              <a:off x="3019320" y="4038120"/>
              <a:ext cx="224640" cy="261000"/>
              <a:chOff x="3019320" y="4038120"/>
              <a:chExt cx="224640" cy="261000"/>
            </a:xfrm>
          </p:grpSpPr>
          <p:sp>
            <p:nvSpPr>
              <p:cNvPr id="264" name="Freeform 12"/>
              <p:cNvSpPr/>
              <p:nvPr/>
            </p:nvSpPr>
            <p:spPr>
              <a:xfrm flipV="1">
                <a:off x="3093840" y="4037760"/>
                <a:ext cx="72000" cy="4140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2"/>
                    </a:moveTo>
                    <a:cubicBezTo>
                      <a:pt x="20639" y="6724"/>
                      <a:pt x="20639" y="12954"/>
                      <a:pt x="16796" y="16796"/>
                    </a:cubicBezTo>
                    <a:cubicBezTo>
                      <a:pt x="12954" y="20639"/>
                      <a:pt x="6724" y="20639"/>
                      <a:pt x="2882" y="16796"/>
                    </a:cubicBezTo>
                    <a:cubicBezTo>
                      <a:pt x="-961" y="12954"/>
                      <a:pt x="-961" y="6724"/>
                      <a:pt x="2882" y="2882"/>
                    </a:cubicBezTo>
                    <a:cubicBezTo>
                      <a:pt x="6724" y="-961"/>
                      <a:pt x="12954" y="-961"/>
                      <a:pt x="16796" y="288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3"/>
              <p:cNvSpPr/>
              <p:nvPr/>
            </p:nvSpPr>
            <p:spPr>
              <a:xfrm>
                <a:off x="3019320" y="4089960"/>
                <a:ext cx="224640" cy="209160"/>
              </a:xfrm>
              <a:custGeom>
                <a:avLst/>
                <a:gdLst/>
                <a:ahLst/>
                <a:rect l="l" t="t" r="r" b="b"/>
                <a:pathLst>
                  <a:path w="21276" h="21600">
                    <a:moveTo>
                      <a:pt x="21191" y="8000"/>
                    </a:moveTo>
                    <a:cubicBezTo>
                      <a:pt x="17435" y="1333"/>
                      <a:pt x="17435" y="1333"/>
                      <a:pt x="17435" y="1333"/>
                    </a:cubicBezTo>
                    <a:cubicBezTo>
                      <a:pt x="17200" y="533"/>
                      <a:pt x="16261" y="0"/>
                      <a:pt x="14852" y="0"/>
                    </a:cubicBezTo>
                    <a:cubicBezTo>
                      <a:pt x="6400" y="0"/>
                      <a:pt x="6400" y="0"/>
                      <a:pt x="6400" y="0"/>
                    </a:cubicBezTo>
                    <a:cubicBezTo>
                      <a:pt x="5461" y="0"/>
                      <a:pt x="4756" y="267"/>
                      <a:pt x="4287" y="667"/>
                    </a:cubicBezTo>
                    <a:cubicBezTo>
                      <a:pt x="4052" y="800"/>
                      <a:pt x="4052" y="800"/>
                      <a:pt x="4052" y="933"/>
                    </a:cubicBezTo>
                    <a:lnTo>
                      <a:pt x="3817" y="1067"/>
                    </a:lnTo>
                    <a:cubicBezTo>
                      <a:pt x="61" y="8000"/>
                      <a:pt x="61" y="8000"/>
                      <a:pt x="61" y="8000"/>
                    </a:cubicBezTo>
                    <a:cubicBezTo>
                      <a:pt x="-174" y="8400"/>
                      <a:pt x="296" y="8933"/>
                      <a:pt x="1000" y="9067"/>
                    </a:cubicBezTo>
                    <a:cubicBezTo>
                      <a:pt x="1939" y="9200"/>
                      <a:pt x="2878" y="8933"/>
                      <a:pt x="3113" y="8533"/>
                    </a:cubicBezTo>
                    <a:cubicBezTo>
                      <a:pt x="5930" y="3067"/>
                      <a:pt x="5930" y="3067"/>
                      <a:pt x="5930" y="3067"/>
                    </a:cubicBezTo>
                    <a:cubicBezTo>
                      <a:pt x="6165" y="3067"/>
                      <a:pt x="6165" y="3067"/>
                      <a:pt x="6400" y="3067"/>
                    </a:cubicBezTo>
                    <a:cubicBezTo>
                      <a:pt x="6635" y="3067"/>
                      <a:pt x="6635" y="3067"/>
                      <a:pt x="6635" y="3067"/>
                    </a:cubicBezTo>
                    <a:cubicBezTo>
                      <a:pt x="1939" y="12800"/>
                      <a:pt x="1939" y="12800"/>
                      <a:pt x="1939" y="12800"/>
                    </a:cubicBezTo>
                    <a:cubicBezTo>
                      <a:pt x="6635" y="12800"/>
                      <a:pt x="6635" y="12800"/>
                      <a:pt x="6635" y="12800"/>
                    </a:cubicBezTo>
                    <a:cubicBezTo>
                      <a:pt x="6635" y="20667"/>
                      <a:pt x="6635" y="20667"/>
                      <a:pt x="6635" y="20667"/>
                    </a:cubicBezTo>
                    <a:cubicBezTo>
                      <a:pt x="6635" y="21200"/>
                      <a:pt x="7574" y="21600"/>
                      <a:pt x="8513" y="21600"/>
                    </a:cubicBezTo>
                    <a:cubicBezTo>
                      <a:pt x="9452" y="21600"/>
                      <a:pt x="10156" y="21200"/>
                      <a:pt x="10156" y="20667"/>
                    </a:cubicBezTo>
                    <a:cubicBezTo>
                      <a:pt x="10156" y="12800"/>
                      <a:pt x="10156" y="12800"/>
                      <a:pt x="10156" y="12800"/>
                    </a:cubicBezTo>
                    <a:cubicBezTo>
                      <a:pt x="11330" y="12800"/>
                      <a:pt x="11330" y="12800"/>
                      <a:pt x="11330" y="12800"/>
                    </a:cubicBezTo>
                    <a:cubicBezTo>
                      <a:pt x="11330" y="20667"/>
                      <a:pt x="11330" y="20667"/>
                      <a:pt x="11330" y="20667"/>
                    </a:cubicBezTo>
                    <a:cubicBezTo>
                      <a:pt x="11330" y="21200"/>
                      <a:pt x="12035" y="21600"/>
                      <a:pt x="12974" y="21600"/>
                    </a:cubicBezTo>
                    <a:cubicBezTo>
                      <a:pt x="13913" y="21600"/>
                      <a:pt x="14852" y="21200"/>
                      <a:pt x="14852" y="20667"/>
                    </a:cubicBezTo>
                    <a:cubicBezTo>
                      <a:pt x="14852" y="12800"/>
                      <a:pt x="14852" y="12800"/>
                      <a:pt x="14852" y="12800"/>
                    </a:cubicBezTo>
                    <a:cubicBezTo>
                      <a:pt x="19313" y="12800"/>
                      <a:pt x="19313" y="12800"/>
                      <a:pt x="19313" y="12800"/>
                    </a:cubicBezTo>
                    <a:cubicBezTo>
                      <a:pt x="14617" y="3067"/>
                      <a:pt x="14617" y="3067"/>
                      <a:pt x="14617" y="3067"/>
                    </a:cubicBezTo>
                    <a:cubicBezTo>
                      <a:pt x="14852" y="3067"/>
                      <a:pt x="14852" y="3067"/>
                      <a:pt x="14852" y="3067"/>
                    </a:cubicBezTo>
                    <a:cubicBezTo>
                      <a:pt x="15087" y="3067"/>
                      <a:pt x="15087" y="3067"/>
                      <a:pt x="15087" y="3067"/>
                    </a:cubicBezTo>
                    <a:cubicBezTo>
                      <a:pt x="18374" y="8533"/>
                      <a:pt x="18374" y="8533"/>
                      <a:pt x="18374" y="8533"/>
                    </a:cubicBezTo>
                    <a:cubicBezTo>
                      <a:pt x="18609" y="8933"/>
                      <a:pt x="19548" y="9200"/>
                      <a:pt x="20252" y="9067"/>
                    </a:cubicBezTo>
                    <a:cubicBezTo>
                      <a:pt x="21191" y="8933"/>
                      <a:pt x="21426" y="8400"/>
                      <a:pt x="21191" y="800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Group 57"/>
            <p:cNvGrpSpPr/>
            <p:nvPr/>
          </p:nvGrpSpPr>
          <p:grpSpPr>
            <a:xfrm>
              <a:off x="3273120" y="4027320"/>
              <a:ext cx="163800" cy="271800"/>
              <a:chOff x="3273120" y="4027320"/>
              <a:chExt cx="163800" cy="271800"/>
            </a:xfrm>
          </p:grpSpPr>
          <p:sp>
            <p:nvSpPr>
              <p:cNvPr id="267" name="Freeform 12"/>
              <p:cNvSpPr/>
              <p:nvPr/>
            </p:nvSpPr>
            <p:spPr>
              <a:xfrm flipH="1" flipV="1">
                <a:off x="3322440" y="4027320"/>
                <a:ext cx="78120" cy="619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2"/>
                    </a:moveTo>
                    <a:cubicBezTo>
                      <a:pt x="20639" y="6724"/>
                      <a:pt x="20639" y="12954"/>
                      <a:pt x="16796" y="16796"/>
                    </a:cubicBezTo>
                    <a:cubicBezTo>
                      <a:pt x="12954" y="20639"/>
                      <a:pt x="6724" y="20639"/>
                      <a:pt x="2882" y="16796"/>
                    </a:cubicBezTo>
                    <a:cubicBezTo>
                      <a:pt x="-961" y="12954"/>
                      <a:pt x="-961" y="6724"/>
                      <a:pt x="2882" y="2882"/>
                    </a:cubicBezTo>
                    <a:cubicBezTo>
                      <a:pt x="6724" y="-961"/>
                      <a:pt x="12954" y="-961"/>
                      <a:pt x="16796" y="288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3"/>
              <p:cNvSpPr/>
              <p:nvPr/>
            </p:nvSpPr>
            <p:spPr>
              <a:xfrm>
                <a:off x="3273120" y="4095000"/>
                <a:ext cx="163800" cy="204120"/>
              </a:xfrm>
              <a:custGeom>
                <a:avLst/>
                <a:gdLst/>
                <a:ahLst/>
                <a:rect l="l" t="t" r="r" b="b"/>
                <a:pathLst>
                  <a:path w="21276" h="21600">
                    <a:moveTo>
                      <a:pt x="21191" y="8000"/>
                    </a:moveTo>
                    <a:cubicBezTo>
                      <a:pt x="17435" y="1333"/>
                      <a:pt x="17435" y="1333"/>
                      <a:pt x="17435" y="1333"/>
                    </a:cubicBezTo>
                    <a:cubicBezTo>
                      <a:pt x="17200" y="533"/>
                      <a:pt x="16261" y="0"/>
                      <a:pt x="14852" y="0"/>
                    </a:cubicBezTo>
                    <a:cubicBezTo>
                      <a:pt x="6400" y="0"/>
                      <a:pt x="6400" y="0"/>
                      <a:pt x="6400" y="0"/>
                    </a:cubicBezTo>
                    <a:cubicBezTo>
                      <a:pt x="5461" y="0"/>
                      <a:pt x="4756" y="267"/>
                      <a:pt x="4287" y="667"/>
                    </a:cubicBezTo>
                    <a:cubicBezTo>
                      <a:pt x="4052" y="800"/>
                      <a:pt x="4052" y="800"/>
                      <a:pt x="4052" y="933"/>
                    </a:cubicBezTo>
                    <a:lnTo>
                      <a:pt x="3817" y="1067"/>
                    </a:lnTo>
                    <a:cubicBezTo>
                      <a:pt x="61" y="8000"/>
                      <a:pt x="61" y="8000"/>
                      <a:pt x="61" y="8000"/>
                    </a:cubicBezTo>
                    <a:cubicBezTo>
                      <a:pt x="-174" y="8400"/>
                      <a:pt x="296" y="8933"/>
                      <a:pt x="1000" y="9067"/>
                    </a:cubicBezTo>
                    <a:cubicBezTo>
                      <a:pt x="1939" y="9200"/>
                      <a:pt x="2878" y="8933"/>
                      <a:pt x="3113" y="8533"/>
                    </a:cubicBezTo>
                    <a:cubicBezTo>
                      <a:pt x="5930" y="3067"/>
                      <a:pt x="5930" y="3067"/>
                      <a:pt x="5930" y="3067"/>
                    </a:cubicBezTo>
                    <a:cubicBezTo>
                      <a:pt x="6165" y="3067"/>
                      <a:pt x="6165" y="3067"/>
                      <a:pt x="6400" y="3067"/>
                    </a:cubicBezTo>
                    <a:cubicBezTo>
                      <a:pt x="6635" y="3067"/>
                      <a:pt x="6635" y="3067"/>
                      <a:pt x="6635" y="3067"/>
                    </a:cubicBezTo>
                    <a:cubicBezTo>
                      <a:pt x="1939" y="12800"/>
                      <a:pt x="1939" y="12800"/>
                      <a:pt x="1939" y="12800"/>
                    </a:cubicBezTo>
                    <a:cubicBezTo>
                      <a:pt x="6635" y="12800"/>
                      <a:pt x="6635" y="12800"/>
                      <a:pt x="6635" y="12800"/>
                    </a:cubicBezTo>
                    <a:cubicBezTo>
                      <a:pt x="6635" y="20667"/>
                      <a:pt x="6635" y="20667"/>
                      <a:pt x="6635" y="20667"/>
                    </a:cubicBezTo>
                    <a:cubicBezTo>
                      <a:pt x="6635" y="21200"/>
                      <a:pt x="7574" y="21600"/>
                      <a:pt x="8513" y="21600"/>
                    </a:cubicBezTo>
                    <a:cubicBezTo>
                      <a:pt x="9452" y="21600"/>
                      <a:pt x="10156" y="21200"/>
                      <a:pt x="10156" y="20667"/>
                    </a:cubicBezTo>
                    <a:cubicBezTo>
                      <a:pt x="10156" y="12800"/>
                      <a:pt x="10156" y="12800"/>
                      <a:pt x="10156" y="12800"/>
                    </a:cubicBezTo>
                    <a:cubicBezTo>
                      <a:pt x="11330" y="12800"/>
                      <a:pt x="11330" y="12800"/>
                      <a:pt x="11330" y="12800"/>
                    </a:cubicBezTo>
                    <a:cubicBezTo>
                      <a:pt x="11330" y="20667"/>
                      <a:pt x="11330" y="20667"/>
                      <a:pt x="11330" y="20667"/>
                    </a:cubicBezTo>
                    <a:cubicBezTo>
                      <a:pt x="11330" y="21200"/>
                      <a:pt x="12035" y="21600"/>
                      <a:pt x="12974" y="21600"/>
                    </a:cubicBezTo>
                    <a:cubicBezTo>
                      <a:pt x="13913" y="21600"/>
                      <a:pt x="14852" y="21200"/>
                      <a:pt x="14852" y="20667"/>
                    </a:cubicBezTo>
                    <a:cubicBezTo>
                      <a:pt x="14852" y="12800"/>
                      <a:pt x="14852" y="12800"/>
                      <a:pt x="14852" y="12800"/>
                    </a:cubicBezTo>
                    <a:cubicBezTo>
                      <a:pt x="19313" y="12800"/>
                      <a:pt x="19313" y="12800"/>
                      <a:pt x="19313" y="12800"/>
                    </a:cubicBezTo>
                    <a:cubicBezTo>
                      <a:pt x="14617" y="3067"/>
                      <a:pt x="14617" y="3067"/>
                      <a:pt x="14617" y="3067"/>
                    </a:cubicBezTo>
                    <a:cubicBezTo>
                      <a:pt x="14852" y="3067"/>
                      <a:pt x="14852" y="3067"/>
                      <a:pt x="14852" y="3067"/>
                    </a:cubicBezTo>
                    <a:cubicBezTo>
                      <a:pt x="15087" y="3067"/>
                      <a:pt x="15087" y="3067"/>
                      <a:pt x="15087" y="3067"/>
                    </a:cubicBezTo>
                    <a:cubicBezTo>
                      <a:pt x="18374" y="8533"/>
                      <a:pt x="18374" y="8533"/>
                      <a:pt x="18374" y="8533"/>
                    </a:cubicBezTo>
                    <a:cubicBezTo>
                      <a:pt x="18609" y="8933"/>
                      <a:pt x="19548" y="9200"/>
                      <a:pt x="20252" y="9067"/>
                    </a:cubicBezTo>
                    <a:cubicBezTo>
                      <a:pt x="21191" y="8933"/>
                      <a:pt x="21426" y="8400"/>
                      <a:pt x="21191" y="800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9" name="Group 3"/>
          <p:cNvGrpSpPr/>
          <p:nvPr/>
        </p:nvGrpSpPr>
        <p:grpSpPr>
          <a:xfrm>
            <a:off x="3322800" y="4799160"/>
            <a:ext cx="2641320" cy="1112760"/>
            <a:chOff x="3322800" y="4799160"/>
            <a:chExt cx="2641320" cy="1112760"/>
          </a:xfrm>
        </p:grpSpPr>
        <p:sp>
          <p:nvSpPr>
            <p:cNvPr id="270" name="Rectangle 6"/>
            <p:cNvSpPr/>
            <p:nvPr/>
          </p:nvSpPr>
          <p:spPr>
            <a:xfrm>
              <a:off x="3322800" y="5111280"/>
              <a:ext cx="2641320" cy="741240"/>
            </a:xfrm>
            <a:prstGeom prst="rect">
              <a:avLst/>
            </a:prstGeom>
            <a:noFill/>
            <a:ln cap="sq" w="3240">
              <a:solidFill>
                <a:srgbClr val="f68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25"/>
            <p:cNvSpPr/>
            <p:nvPr/>
          </p:nvSpPr>
          <p:spPr>
            <a:xfrm>
              <a:off x="3417840" y="5172120"/>
              <a:ext cx="2527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7f7f7f"/>
                  </a:solidFill>
                  <a:latin typeface="Aller Light"/>
                </a:rPr>
                <a:t>Open APIs for enterprise solutions providers and integ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26"/>
            <p:cNvSpPr/>
            <p:nvPr/>
          </p:nvSpPr>
          <p:spPr>
            <a:xfrm>
              <a:off x="3691080" y="5780160"/>
              <a:ext cx="1080720" cy="13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685800"/>
                  <a:tab algn="l" pos="1596960"/>
                  <a:tab algn="l" pos="2509920"/>
                  <a:tab algn="l" pos="3422520"/>
                  <a:tab algn="l" pos="4335480"/>
                  <a:tab algn="l" pos="5248440"/>
                  <a:tab algn="l" pos="6161040"/>
                  <a:tab algn="l" pos="7074000"/>
                  <a:tab algn="l" pos="7986600"/>
                  <a:tab algn="l" pos="8899560"/>
                  <a:tab algn="l" pos="9812160"/>
                  <a:tab algn="l" pos="10725120"/>
                </a:tabLst>
              </a:pPr>
              <a:r>
                <a:rPr b="1" lang="en-GB" sz="1200" spc="-1" strike="noStrike">
                  <a:solidFill>
                    <a:srgbClr val="762123"/>
                  </a:solidFill>
                  <a:latin typeface="Kontrapunkt Bob"/>
                </a:rPr>
                <a:t>Open AP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Group 2"/>
            <p:cNvGrpSpPr/>
            <p:nvPr/>
          </p:nvGrpSpPr>
          <p:grpSpPr>
            <a:xfrm>
              <a:off x="4349880" y="4799160"/>
              <a:ext cx="422280" cy="419760"/>
              <a:chOff x="4349880" y="4799160"/>
              <a:chExt cx="422280" cy="419760"/>
            </a:xfrm>
          </p:grpSpPr>
          <p:sp>
            <p:nvSpPr>
              <p:cNvPr id="274" name="Freeform 13"/>
              <p:cNvSpPr/>
              <p:nvPr/>
            </p:nvSpPr>
            <p:spPr>
              <a:xfrm>
                <a:off x="4349880" y="4799160"/>
                <a:ext cx="422280" cy="41976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2"/>
                    </a:moveTo>
                    <a:cubicBezTo>
                      <a:pt x="20639" y="6724"/>
                      <a:pt x="20639" y="12954"/>
                      <a:pt x="16796" y="16796"/>
                    </a:cubicBezTo>
                    <a:cubicBezTo>
                      <a:pt x="12954" y="20639"/>
                      <a:pt x="6724" y="20639"/>
                      <a:pt x="2882" y="16796"/>
                    </a:cubicBezTo>
                    <a:cubicBezTo>
                      <a:pt x="-961" y="12954"/>
                      <a:pt x="-961" y="6724"/>
                      <a:pt x="2882" y="2882"/>
                    </a:cubicBezTo>
                    <a:cubicBezTo>
                      <a:pt x="6724" y="-961"/>
                      <a:pt x="12954" y="-961"/>
                      <a:pt x="16796" y="2882"/>
                    </a:cubicBezTo>
                    <a:close/>
                  </a:path>
                </a:pathLst>
              </a:custGeom>
              <a:solidFill>
                <a:srgbClr val="f15d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9"/>
              <p:cNvSpPr/>
              <p:nvPr/>
            </p:nvSpPr>
            <p:spPr>
              <a:xfrm>
                <a:off x="4382280" y="4862160"/>
                <a:ext cx="346320" cy="283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8143" y="10800"/>
                    </a:moveTo>
                    <a:cubicBezTo>
                      <a:pt x="17065" y="10800"/>
                      <a:pt x="16800" y="11898"/>
                      <a:pt x="16709" y="12419"/>
                    </a:cubicBezTo>
                    <a:cubicBezTo>
                      <a:pt x="16115" y="15817"/>
                      <a:pt x="13696" y="18359"/>
                      <a:pt x="10800" y="18359"/>
                    </a:cubicBezTo>
                    <a:cubicBezTo>
                      <a:pt x="9130" y="18359"/>
                      <a:pt x="7618" y="17514"/>
                      <a:pt x="6524" y="16146"/>
                    </a:cubicBezTo>
                    <a:cubicBezTo>
                      <a:pt x="6018" y="15513"/>
                      <a:pt x="5198" y="15513"/>
                      <a:pt x="4691" y="16146"/>
                    </a:cubicBezTo>
                    <a:cubicBezTo>
                      <a:pt x="4185" y="16779"/>
                      <a:pt x="4185" y="17804"/>
                      <a:pt x="4691" y="18437"/>
                    </a:cubicBezTo>
                    <a:cubicBezTo>
                      <a:pt x="6255" y="20391"/>
                      <a:pt x="8415" y="21600"/>
                      <a:pt x="10800" y="21600"/>
                    </a:cubicBezTo>
                    <a:cubicBezTo>
                      <a:pt x="14669" y="21600"/>
                      <a:pt x="17943" y="18421"/>
                      <a:pt x="19043" y="14039"/>
                    </a:cubicBezTo>
                    <a:lnTo>
                      <a:pt x="21600" y="14039"/>
                    </a:lnTo>
                    <a:lnTo>
                      <a:pt x="21600" y="10800"/>
                    </a:lnTo>
                    <a:cubicBezTo>
                      <a:pt x="21600" y="10800"/>
                      <a:pt x="18143" y="10800"/>
                      <a:pt x="18143" y="10800"/>
                    </a:cubicBezTo>
                    <a:close/>
                    <a:moveTo>
                      <a:pt x="4891" y="9180"/>
                    </a:moveTo>
                    <a:cubicBezTo>
                      <a:pt x="5484" y="5783"/>
                      <a:pt x="7904" y="3240"/>
                      <a:pt x="10800" y="3240"/>
                    </a:cubicBezTo>
                    <a:cubicBezTo>
                      <a:pt x="12470" y="3240"/>
                      <a:pt x="13982" y="4086"/>
                      <a:pt x="15076" y="5454"/>
                    </a:cubicBezTo>
                    <a:cubicBezTo>
                      <a:pt x="15582" y="6086"/>
                      <a:pt x="16404" y="6086"/>
                      <a:pt x="16909" y="5454"/>
                    </a:cubicBezTo>
                    <a:cubicBezTo>
                      <a:pt x="17415" y="4821"/>
                      <a:pt x="17415" y="3796"/>
                      <a:pt x="16909" y="3163"/>
                    </a:cubicBezTo>
                    <a:cubicBezTo>
                      <a:pt x="15346" y="1209"/>
                      <a:pt x="13186" y="0"/>
                      <a:pt x="10800" y="0"/>
                    </a:cubicBezTo>
                    <a:cubicBezTo>
                      <a:pt x="6931" y="0"/>
                      <a:pt x="3658" y="3178"/>
                      <a:pt x="2557" y="7560"/>
                    </a:cubicBezTo>
                    <a:lnTo>
                      <a:pt x="0" y="7560"/>
                    </a:lnTo>
                    <a:lnTo>
                      <a:pt x="0" y="10800"/>
                    </a:lnTo>
                    <a:lnTo>
                      <a:pt x="3457" y="10800"/>
                    </a:lnTo>
                    <a:cubicBezTo>
                      <a:pt x="4535" y="10800"/>
                      <a:pt x="4800" y="9702"/>
                      <a:pt x="4891" y="9180"/>
                    </a:cubicBezTo>
                    <a:close/>
                    <a:moveTo>
                      <a:pt x="7343" y="10800"/>
                    </a:moveTo>
                    <a:cubicBezTo>
                      <a:pt x="7343" y="13185"/>
                      <a:pt x="8891" y="15120"/>
                      <a:pt x="10800" y="15120"/>
                    </a:cubicBezTo>
                    <a:cubicBezTo>
                      <a:pt x="12709" y="15120"/>
                      <a:pt x="14255" y="13185"/>
                      <a:pt x="14255" y="10800"/>
                    </a:cubicBezTo>
                    <a:cubicBezTo>
                      <a:pt x="14255" y="8415"/>
                      <a:pt x="12709" y="6480"/>
                      <a:pt x="10800" y="6480"/>
                    </a:cubicBezTo>
                    <a:cubicBezTo>
                      <a:pt x="8891" y="6480"/>
                      <a:pt x="7343" y="8415"/>
                      <a:pt x="7343" y="1080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76" name="Picture 11" descr="C:\Users\NYAKAMBINICK\Dropbox\Mobi Ticket\Branding\logos\green_pink - Copy (2).png"/>
          <p:cNvPicPr/>
          <p:nvPr/>
        </p:nvPicPr>
        <p:blipFill>
          <a:blip r:embed="rId2"/>
          <a:stretch/>
        </p:blipFill>
        <p:spPr>
          <a:xfrm>
            <a:off x="3854520" y="3465360"/>
            <a:ext cx="1495440" cy="2574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" descr=""/>
          <p:cNvPicPr/>
          <p:nvPr/>
        </p:nvPicPr>
        <p:blipFill>
          <a:blip r:embed="rId3"/>
          <a:stretch/>
        </p:blipFill>
        <p:spPr>
          <a:xfrm>
            <a:off x="6870600" y="830160"/>
            <a:ext cx="1971720" cy="54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539040" cy="127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rebuchet MS"/>
              </a:rPr>
              <a:t>BRT in Nairobi</a:t>
            </a: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39280" y="2209680"/>
            <a:ext cx="460692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Government changing focus on public transport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Greater Nairobi has poor transport services, congestion, high rates of traffic accidents and greatly increasing pollution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Commuter rail very ineffective due to lack of comfort, limited coverage, no intermodal integration 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AfDB financed MRTS study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</p:txBody>
      </p:sp>
      <p:pic>
        <p:nvPicPr>
          <p:cNvPr id="280" name="Picture 9" descr=""/>
          <p:cNvPicPr/>
          <p:nvPr/>
        </p:nvPicPr>
        <p:blipFill>
          <a:blip r:embed="rId1"/>
          <a:stretch/>
        </p:blipFill>
        <p:spPr>
          <a:xfrm>
            <a:off x="5284800" y="3282840"/>
            <a:ext cx="3852720" cy="25923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" descr="Related image"/>
          <p:cNvPicPr/>
          <p:nvPr/>
        </p:nvPicPr>
        <p:blipFill>
          <a:blip r:embed="rId2"/>
          <a:stretch/>
        </p:blipFill>
        <p:spPr>
          <a:xfrm>
            <a:off x="5267160" y="1486080"/>
            <a:ext cx="3876840" cy="1827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" descr=""/>
          <p:cNvPicPr/>
          <p:nvPr/>
        </p:nvPicPr>
        <p:blipFill>
          <a:blip r:embed="rId3"/>
          <a:stretch/>
        </p:blipFill>
        <p:spPr>
          <a:xfrm>
            <a:off x="6870600" y="830160"/>
            <a:ext cx="1971720" cy="5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539040" cy="127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rebuchet MS"/>
              </a:rPr>
              <a:t>BRT in Nairobi</a:t>
            </a: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pic>
        <p:nvPicPr>
          <p:cNvPr id="284" name="Picture 1" descr=""/>
          <p:cNvPicPr/>
          <p:nvPr/>
        </p:nvPicPr>
        <p:blipFill>
          <a:blip r:embed="rId1"/>
          <a:stretch/>
        </p:blipFill>
        <p:spPr>
          <a:xfrm>
            <a:off x="6870600" y="830160"/>
            <a:ext cx="1971720" cy="5446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" descr=""/>
          <p:cNvPicPr/>
          <p:nvPr/>
        </p:nvPicPr>
        <p:blipFill>
          <a:blip r:embed="rId2"/>
          <a:stretch/>
        </p:blipFill>
        <p:spPr>
          <a:xfrm>
            <a:off x="260280" y="2409840"/>
            <a:ext cx="4025880" cy="27828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"/>
          <p:cNvPicPr/>
          <p:nvPr/>
        </p:nvPicPr>
        <p:blipFill>
          <a:blip r:embed="rId3"/>
          <a:stretch/>
        </p:blipFill>
        <p:spPr>
          <a:xfrm>
            <a:off x="4349880" y="2409840"/>
            <a:ext cx="4556160" cy="2782800"/>
          </a:xfrm>
          <a:prstGeom prst="rect">
            <a:avLst/>
          </a:prstGeom>
          <a:ln w="0">
            <a:noFill/>
          </a:ln>
        </p:spPr>
      </p:pic>
      <p:sp>
        <p:nvSpPr>
          <p:cNvPr id="287" name="Title 1"/>
          <p:cNvSpPr/>
          <p:nvPr/>
        </p:nvSpPr>
        <p:spPr>
          <a:xfrm>
            <a:off x="390600" y="1955880"/>
            <a:ext cx="21621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MRT Corri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itle 1"/>
          <p:cNvSpPr/>
          <p:nvPr/>
        </p:nvSpPr>
        <p:spPr>
          <a:xfrm>
            <a:off x="4349880" y="1955880"/>
            <a:ext cx="21603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BRT Corri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539040" cy="127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rebuchet MS"/>
              </a:rPr>
              <a:t>Moving Ahead</a:t>
            </a: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9280" y="2209680"/>
            <a:ext cx="460692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Work together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Beyond BRT – higher capacity than BRT, Eco mobility alternative transport?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African technological advantage should be explored to secure systems integrations – integrated ticketing and unified payments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lvl="1" marL="743040" indent="-285840">
              <a:spcBef>
                <a:spcPts val="34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rebuchet MS"/>
              </a:rPr>
              <a:t>Provide integrated ticketing</a:t>
            </a:r>
            <a:endParaRPr b="0" lang="en-US" sz="1400" spc="-1" strike="noStrike">
              <a:solidFill>
                <a:srgbClr val="333399"/>
              </a:solidFill>
              <a:latin typeface="Trebuchet MS"/>
            </a:endParaRPr>
          </a:p>
          <a:p>
            <a:pPr lvl="1" marL="743040" indent="-285840">
              <a:spcBef>
                <a:spcPts val="34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rebuchet MS"/>
              </a:rPr>
              <a:t>Ubiquitous channels for payments and ticketing</a:t>
            </a:r>
            <a:endParaRPr b="0" lang="en-US" sz="1400" spc="-1" strike="noStrike">
              <a:solidFill>
                <a:srgbClr val="333399"/>
              </a:solidFill>
              <a:latin typeface="Trebuchet MS"/>
            </a:endParaRPr>
          </a:p>
          <a:p>
            <a:pPr lvl="1" marL="743040" indent="-285840">
              <a:spcBef>
                <a:spcPts val="34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rebuchet MS"/>
              </a:rPr>
              <a:t>Intermodal transfer</a:t>
            </a:r>
            <a:endParaRPr b="0" lang="en-US" sz="1400" spc="-1" strike="noStrike">
              <a:solidFill>
                <a:srgbClr val="333399"/>
              </a:solidFill>
              <a:latin typeface="Trebuchet MS"/>
            </a:endParaRPr>
          </a:p>
          <a:p>
            <a:pPr marL="343080" indent="-343080">
              <a:spcBef>
                <a:spcPts val="349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Trebuchet MS"/>
            </a:endParaRPr>
          </a:p>
        </p:txBody>
      </p:sp>
      <p:pic>
        <p:nvPicPr>
          <p:cNvPr id="291" name="Picture 9" descr=""/>
          <p:cNvPicPr/>
          <p:nvPr/>
        </p:nvPicPr>
        <p:blipFill>
          <a:blip r:embed="rId1"/>
          <a:stretch/>
        </p:blipFill>
        <p:spPr>
          <a:xfrm>
            <a:off x="5284800" y="3282840"/>
            <a:ext cx="3852720" cy="25923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Related image"/>
          <p:cNvPicPr/>
          <p:nvPr/>
        </p:nvPicPr>
        <p:blipFill>
          <a:blip r:embed="rId2"/>
          <a:stretch/>
        </p:blipFill>
        <p:spPr>
          <a:xfrm>
            <a:off x="5267160" y="1486080"/>
            <a:ext cx="3876840" cy="18270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" descr=""/>
          <p:cNvPicPr/>
          <p:nvPr/>
        </p:nvPicPr>
        <p:blipFill>
          <a:blip r:embed="rId3"/>
          <a:stretch/>
        </p:blipFill>
        <p:spPr>
          <a:xfrm>
            <a:off x="6870600" y="830160"/>
            <a:ext cx="1971720" cy="544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9T22:19:32Z</dcterms:created>
  <dc:creator>NICK</dc:creator>
  <dc:description/>
  <dc:language>en-US</dc:language>
  <cp:lastModifiedBy>NYAKAMBINICK</cp:lastModifiedBy>
  <cp:lastPrinted>2014-01-13T19:09:03Z</cp:lastPrinted>
  <dcterms:modified xsi:type="dcterms:W3CDTF">2018-11-27T08:53:31Z</dcterms:modified>
  <cp:revision>175</cp:revision>
  <dc:subject/>
  <dc:title>Slide 1</dc:title>
</cp:coreProperties>
</file>